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D3E6-8064-4937-88B1-8F0AF4662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2CD0-591B-44C6-B15E-57241B9F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17B6-A7DC-4BFD-A27E-7803A18D1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7980-72ED-4C2D-83DD-0DAFB8567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FF2B-3F8F-4101-BBC0-3CF28629C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7369-7348-44EB-9623-D07F9497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D0BA-8662-4C35-8332-E1C3C189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827F-8141-40FD-961E-F9AC1E48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E44A-D265-4488-9A00-7F4CA7E9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6A4C-A34E-4CCF-9101-C5564164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5812-0CF9-4803-AD53-8FBE6756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B75B-11BF-4435-AED8-F2DE9C4B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F306-1370-4560-9289-B937F22B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A706-5B3E-48FE-B8DA-98A14C4A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A828-F439-45C0-916A-993C4B6C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949B-B1D8-4E01-B825-49557892B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C576-ECBB-45D2-8B70-1C3C267A0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0627AE-8AB3-4519-9528-293640439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CCCC59-2992-42A8-A86F-5429B08A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A212DE-C54B-4D0B-B021-1FD27162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65F8BC-DD1C-4BD5-A14F-B22CC8F5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4D7421-2E12-46FD-9234-422945B4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A121-9771-4E69-9015-5B8E6717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141067-A336-4CCD-AEE0-F424BAC8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065E95-2CB3-4C0F-A5E8-725B3F42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C25097-3DB5-4F90-8089-C61A9716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E60253-046C-42E4-86EE-B49F833B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E9C0F7-1436-441C-94F7-5BD81EFD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A759DE-F78F-43CB-BA78-77D0F3C44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662A7D-872A-4A62-A70F-2F7FF8E69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A0A17-63FB-4F50-8D93-C437386AD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71BED-11E1-48C4-9982-BA99FDD8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EF725-9336-4D0E-852A-7F5B6DFC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A35F-4394-4EC6-9C76-1C24F043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8B7D1-B384-4427-A4B2-542800B0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D1242-3C07-426D-86EE-EF202D2E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0263F-3E80-4631-B7AF-A75DBC92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E67C8-0AB9-4C20-86CB-83D0D800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2CD2C-E2EE-419F-B839-60DCF1FE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E4AC5-5812-47B4-8445-7C57A762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C8E57-475D-477D-A5D5-0BC1CEA7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D0041-3130-4674-A7C6-953C0094B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E4F8B-DB98-40B2-8548-02A9C02DE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FD40E3-5220-49FC-A792-8A547A12D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E742-8639-4CDC-A887-6CDFFD96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8FFA9C-BD56-4AB0-8D1E-A5BE5792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632213-6D7E-49DB-97EE-C75F2B3E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917B6B-CFF0-403F-9313-ADAFEE0A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A841BF-5776-4B30-A041-DD7CDE50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E375E7-BDAC-4310-BCC2-E2B9AA39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FAE00C-5331-4396-8E76-AC8B616F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836F7F-4B7D-4AD2-A04A-5257744C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F87B22-17FF-4EA8-9BE7-6D3FA162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9F4E37-BF09-4A74-AC85-D8217E3A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56FE06-CCA9-459B-8A45-3156989CB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6EB0-B66D-4209-AC92-2F554019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DA2AB3-6E9B-4EF6-A760-CFFF8ACEA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36DBE5-DE29-4D60-9923-DE0601C07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B36E0A-0A3B-4D68-99E9-7CA4DCC2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D91FFF-BD7C-4739-ACB6-4A4A1A33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19B150-8351-4BE7-9C23-4BBCFE2B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7B5DFF-A057-4330-B5A9-41428C7B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713385-9BE2-456A-8DC7-F69655F8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79E51E-57AA-4888-814A-DC054C98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EFB786-294B-4AFB-A2F1-873907B6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283E29-A45A-4BA5-8261-AD59C6B7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B5CE-7E77-4591-B4B2-62947A00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9EEA71-4990-4BE0-B569-10771C30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3F6EC8-AB49-4548-967A-C615C95ED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D190FC-2765-4BD5-BDDA-73AA1D55D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EB1CE4-99F4-46B2-BD2C-2D12FC482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734913-67A9-4F84-A999-7912BF04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776F7B-DF04-40B7-818B-AF5D9D8F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AD13AE-39C5-4D58-972E-34ACE7B7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C3408B-5489-4814-BDD8-2570BCFD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EEF928-100F-424D-BEE0-22F8E69F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1A96E7-98D1-4230-9C9B-9CF670D6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0555-82FC-44AA-B484-33F66301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722234-8167-4EA2-925A-6338B9B2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5DAFDE-607D-422A-AF26-A7E495A2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CE2399-021F-4374-9CE6-9D4CDD2C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DCC3E6-C24B-479F-9FFC-DDF2EA464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60BC36-A7E2-45C1-ACF5-09562153B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A91A-A265-4155-89F5-BCD4A81D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6973-A187-4CCA-A13C-AF3946D0714B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tangolo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ttangolo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ttangolo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ttangolo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Connettore 1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Connettore 1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Connettore 1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Connettore 1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Connettore 1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Connettore 1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ttangolo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e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e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e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e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e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87FB-6D36-431E-B71B-3D30BA0A03C6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4A08-3A21-4858-954A-D1A90C455212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ttangolo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ttangolo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ttangolo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ttangolo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Connettore 1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Connettore 1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Connettore 1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Connettore 1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Connettore 1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ttangolo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e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e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e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Connettore 1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bf5f9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0FF8-F472-43FB-BC13-6C82806B64F0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78C5-35D6-427F-9A29-8144342F5FCC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nettore 1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Connettore 1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Connettore 1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Connettore 1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ttangolo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Connettore 1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e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50FD-02A2-489D-83BE-880072D8CA55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nettore 1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e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Connettore 1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ttangolo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Connettore 1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Connettore 1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Connettore 1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9C38-EF7D-4684-B861-9067D26125D4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14280" y="285480"/>
            <a:ext cx="421488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b5395"/>
                </a:solidFill>
                <a:latin typeface="Century Schoolbook"/>
              </a:rPr>
              <a:t>ICS</a:t>
            </a:r>
            <a:br>
              <a:rPr sz="2400"/>
            </a:br>
            <a:r>
              <a:rPr b="1" lang="it-IT" sz="2400" spc="-1" strike="noStrike">
                <a:solidFill>
                  <a:srgbClr val="0b5395"/>
                </a:solidFill>
                <a:latin typeface="Century Schoolbook"/>
              </a:rPr>
              <a:t>SAN DOMENICO SAVIO</a:t>
            </a:r>
            <a:br>
              <a:rPr sz="2400"/>
            </a:br>
            <a:r>
              <a:rPr b="1" lang="it-IT" sz="2400" spc="-1" strike="noStrike">
                <a:solidFill>
                  <a:srgbClr val="0b5395"/>
                </a:solidFill>
                <a:latin typeface="Century Schoolbook"/>
              </a:rPr>
              <a:t>ITALY</a:t>
            </a:r>
            <a:br>
              <a:rPr sz="2400"/>
            </a:br>
            <a:r>
              <a:rPr b="1" lang="it-IT" sz="2400" spc="-1" strike="noStrike">
                <a:solidFill>
                  <a:srgbClr val="0b5395"/>
                </a:solidFill>
                <a:latin typeface="Century Schoolbook"/>
              </a:rPr>
              <a:t>ERASMUS +</a:t>
            </a:r>
            <a:endParaRPr b="0" lang="en-US" sz="24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356920" y="350028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b5395"/>
                </a:solidFill>
                <a:latin typeface="Century Schoolbook"/>
              </a:rPr>
              <a:t>BILINGUAL EDUCATION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b5395"/>
                </a:solidFill>
                <a:latin typeface="Century Schoolbook"/>
              </a:rPr>
              <a:t>IN ITAL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5500800" y="868320"/>
            <a:ext cx="3206520" cy="631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6715080" y="500040"/>
            <a:ext cx="1992240" cy="39204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1785600" y="428760"/>
            <a:ext cx="56005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b5395"/>
                </a:solidFill>
                <a:latin typeface="Century Schoolbook"/>
              </a:rPr>
              <a:t>Bilingual Educ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CasellaDiTesto 5"/>
          <p:cNvSpPr/>
          <p:nvPr/>
        </p:nvSpPr>
        <p:spPr>
          <a:xfrm>
            <a:off x="2286000" y="1214280"/>
            <a:ext cx="5929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bout in 1994, the use of CLIL (Content and Language Integrated Learning) in Italian Schools had more development  in the Italian Bilingual Regions (language immersion): Piemonte, Valle d’Aosta, Lombardia, Trentino, Veneto, on the border with France, Switzerland, Austria and Slovenia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7" name="Picture 4" descr="http://www.webalice.it/renza.proch/ITALIA_1/images/italia_politica.jpg"/>
          <p:cNvPicPr/>
          <p:nvPr/>
        </p:nvPicPr>
        <p:blipFill>
          <a:blip r:embed="rId2"/>
          <a:stretch/>
        </p:blipFill>
        <p:spPr>
          <a:xfrm>
            <a:off x="3643200" y="3000240"/>
            <a:ext cx="3167280" cy="3727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ttangolo 3"/>
          <p:cNvSpPr/>
          <p:nvPr/>
        </p:nvSpPr>
        <p:spPr>
          <a:xfrm>
            <a:off x="2286000" y="1285920"/>
            <a:ext cx="55008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ince 2010, the Italian School Reform introduced in the High Secondary School (14/18 years) the teaching of a subject (History, Geography, Science, …) in foreign language  according to the methodology CLIL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eachers’ Training Courses have therefore been started for the acquisition of skills on CLIL methodology and the acquisition of language skills up to the C1 (CEFR), 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especially in English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785600" y="428760"/>
            <a:ext cx="56005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b5395"/>
                </a:solidFill>
                <a:latin typeface="Century Schoolbook"/>
              </a:rPr>
              <a:t>Bilingual Educ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6715080" y="500040"/>
            <a:ext cx="1992240" cy="3920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http://www.didatticachimica.it/wp-content/uploads/2013/05/CLIL-e-termini-correlati.jpg"/>
          <p:cNvPicPr/>
          <p:nvPr/>
        </p:nvPicPr>
        <p:blipFill>
          <a:blip r:embed="rId2"/>
          <a:stretch/>
        </p:blipFill>
        <p:spPr>
          <a:xfrm>
            <a:off x="3214800" y="4143240"/>
            <a:ext cx="423864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CasellaDiTesto 5"/>
          <p:cNvSpPr/>
          <p:nvPr/>
        </p:nvSpPr>
        <p:spPr>
          <a:xfrm>
            <a:off x="2357280" y="1785960"/>
            <a:ext cx="592956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n Primary (8/11 years) and Lower Secondary School (11/13 years) the teaching in English of a subject (History, Geography, Science, …), according to the methodology CLIL, 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is at the beginning stage and it’s esperimental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s is due to several reasons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eachers of the older generation, who have high skills in English, are only English Specialist Teacher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nly recently have been introduced high English language courses in University Programs, which are not only of Foreign Linguistic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re are still few trained teachers for CLIL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856880" y="356760"/>
            <a:ext cx="400068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b5395"/>
                </a:solidFill>
                <a:latin typeface="Century Schoolbook"/>
              </a:rPr>
              <a:t>Bilingual Educ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6715080" y="500040"/>
            <a:ext cx="1992240" cy="392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856880" y="499680"/>
            <a:ext cx="400068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b5395"/>
                </a:solidFill>
                <a:latin typeface="Century Schoolbook"/>
              </a:rPr>
              <a:t>Bilingual Education 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b5395"/>
                </a:solidFill>
                <a:latin typeface="Century Schoolbook"/>
              </a:rPr>
              <a:t>Our Schoo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6715080" y="500040"/>
            <a:ext cx="1992240" cy="392040"/>
          </a:xfrm>
          <a:prstGeom prst="rect">
            <a:avLst/>
          </a:prstGeom>
          <a:ln w="0">
            <a:noFill/>
          </a:ln>
        </p:spPr>
      </p:pic>
      <p:sp>
        <p:nvSpPr>
          <p:cNvPr id="367" name="CasellaDiTesto 5"/>
          <p:cNvSpPr/>
          <p:nvPr/>
        </p:nvSpPr>
        <p:spPr>
          <a:xfrm>
            <a:off x="2428920" y="1500120"/>
            <a:ext cx="6072120" cy="61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b5395"/>
                </a:solidFill>
                <a:latin typeface="Century Schoolbook"/>
              </a:rPr>
              <a:t>Primary School (8/11 years)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only Foreign Language is English: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listening, reading and understanding simple phrases, copying correctly, writing short phrases, following a given model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b5395"/>
                </a:solidFill>
                <a:latin typeface="Century Schoolbook"/>
              </a:rPr>
              <a:t>Lower Secondary School (11/13 years)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First Foreign Language is English: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reaching the level of the European Language Portfolio A2 through the integration of various skills: listening, reading, speaking, writing, oral interaction and written interaction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Second Foreign Language is Spanish: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Listening and understanding comprehensively the spoken and written language.</a:t>
            </a:r>
            <a:r>
              <a:rPr b="0" lang="it-IT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Expressing appropriately in speaking and writing interaction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No subject uses CLIL: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we are planning strategies for the use of CLIL, through European funding or families’ private contribution, to have mother tongue</a:t>
            </a:r>
            <a:r>
              <a:rPr b="0" lang="en-GB" sz="1600" spc="-1" strike="noStrike">
                <a:solidFill>
                  <a:srgbClr val="404040"/>
                </a:solidFill>
                <a:latin typeface="Century Schoolbook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entury Schoolbook"/>
              </a:rPr>
              <a:t>speakers as assistants in several lessons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13:29:51Z</dcterms:created>
  <dc:creator>xxxxx</dc:creator>
  <dc:description/>
  <dc:language>en-US</dc:language>
  <cp:lastModifiedBy>xxxxx</cp:lastModifiedBy>
  <dcterms:modified xsi:type="dcterms:W3CDTF">2015-02-23T19:52:03Z</dcterms:modified>
  <cp:revision>31</cp:revision>
  <dc:subject/>
  <dc:title>clil</dc:title>
</cp:coreProperties>
</file>