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FBD4-659F-4A84-8D28-FB856A39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4955-C27F-4BE1-9ED1-EB50DD62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20C5-1D4B-4F4C-B791-45C0733CD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AE15-6A1F-408A-8164-151D4FFCC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7E88-3C9D-4E95-8F45-CF5235A2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FE47-7000-49C8-BB05-2BAA82F9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BA11-6B2E-4FCD-98CA-FF811A49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4DEE-7F6A-4B0B-9A66-EF4C977F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F995-9DDD-4EF2-9591-784CED18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5CAF-0065-47BA-A275-D371387E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387B-0C9E-4693-AA7F-2183E18C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AB1D-EE40-41DF-AB0A-9C0CD003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C4E4-FF14-48B9-93A3-F5155CEC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F59E-BDF6-410A-943F-8038A9D8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F6F1-B9AE-41A7-BE76-AC8BE6A5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67AC-3675-4D17-ABA7-AF4C8DCD4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DF57-DF6C-41C9-8EB2-36087502E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15861-0BE0-402A-965C-730AA4F1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B0BE2-8D8E-4A88-BA17-591FCCE8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62FD3-6BB6-4591-B8EA-7419E4EA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58DE1-A70D-4AC4-9AFF-A4CFE102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15829-67F6-4037-B757-AFEE7519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B375-1D1D-49B9-B6DD-5EA451CA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F483B-603A-4164-81A8-16FB0A0B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8EF2D-4E9D-437C-A47C-2172A64F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E2834-EEDA-44A2-99F7-80015FFF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18983-6580-4458-9C34-99081BDC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D31CC-BC0C-41D1-A428-AA87A56F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19098-8860-42D3-BFD1-2F9B1F347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D9123-1DD7-4A4F-86F2-A22CBA07A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FD6D4-B5B3-4027-80D7-736BCB94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38EB1-C953-4E7B-ABDE-45479655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2FE3C-6468-4EA6-83CB-E67915F9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6715-A849-4B67-BF6A-E0BEA1E0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168B3-FA67-4DDD-8F82-55ADC11F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28F25-65EC-4E39-BF84-3512C337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8FC85-D48D-40B7-9FD6-0A7FE33D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5AD41-C756-4B3A-A89C-79C926BD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79DF2-6332-4F2E-9459-8C2529DF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99C8E-9820-49E2-9D5C-94286F6A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F12A5-12B2-4874-B73B-0030604E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70641-874A-4562-BA3C-BA45F3FB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33485-6E50-4ACD-8ED2-C16C067C4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DE7E-0859-40CA-BD68-2A4DE51B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F624-CC6A-441D-9999-1C364591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DA91-C140-4D53-A98B-214AC0CA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E9CB-0D8D-4150-AB84-496C199F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A78B-9EC1-41BB-8F7D-4AAE250D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985C-D77B-4EFA-969B-7E847BAE979C}" type="slidenum">
              <a:rPr b="0" lang="cs-CZ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85A6-C1AE-43BB-9024-A8F807F0B1C2}" type="slidenum">
              <a:rPr b="0" lang="cs-CZ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9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F0D9-7C1F-46F5-9CF5-E44C64F21EB7}" type="slidenum">
              <a:rPr b="0" lang="cs-CZ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E5AF-8B47-4327-9EE7-2E9690691CA9}" type="slidenum">
              <a:rPr b="0" lang="cs-CZ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vienna-unwrapped.com/wp-content/uploads/2014/03/world_war_i_1914-1918_austria-hungary_map_www.warchat.org_480x33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5400" spc="-1" strike="noStrike">
                <a:solidFill>
                  <a:srgbClr val="90c226"/>
                </a:solidFill>
                <a:latin typeface="Trebuchet MS"/>
              </a:rPr>
              <a:t>Bilingual education in the Czech republic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Trebuchet MS"/>
              </a:rPr>
              <a:t>Bilingual education in Central Bohemi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90c226"/>
                </a:solidFill>
                <a:latin typeface="Trebuchet MS"/>
              </a:rPr>
              <a:t>Bilingual education – history overview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77520" y="1657080"/>
            <a:ext cx="4979880" cy="43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 u="sng">
                <a:solidFill>
                  <a:srgbClr val="404040"/>
                </a:solidFill>
                <a:uFillTx/>
                <a:latin typeface="Trebuchet MS"/>
              </a:rPr>
              <a:t>1918 – creation of Czechoslovakia (before we were part of Austria-Hungary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Languages – Czech, Slovak, Russian (Sub Carpathian Ruthenia), German (big community); Polish and Hungarian around borders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 u="sng">
                <a:solidFill>
                  <a:srgbClr val="404040"/>
                </a:solidFill>
                <a:uFillTx/>
                <a:latin typeface="Trebuchet MS"/>
              </a:rPr>
              <a:t>After WWII. – Czechoslovaki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Languages – Czech, Slovak; Polish, Hungarian and German around borders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Obrázek 3" descr=""/>
          <p:cNvPicPr/>
          <p:nvPr/>
        </p:nvPicPr>
        <p:blipFill>
          <a:blip r:embed="rId1"/>
          <a:stretch/>
        </p:blipFill>
        <p:spPr>
          <a:xfrm>
            <a:off x="5560920" y="2563920"/>
            <a:ext cx="45720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6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90c226"/>
                </a:solidFill>
                <a:latin typeface="Trebuchet MS"/>
              </a:rPr>
              <a:t>Bilingual education – history overview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77520" y="1657080"/>
            <a:ext cx="8596440" cy="43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 u="sng">
                <a:solidFill>
                  <a:srgbClr val="404040"/>
                </a:solidFill>
                <a:uFillTx/>
                <a:latin typeface="Trebuchet MS"/>
              </a:rPr>
              <a:t>During communism time – all schools taught Russia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 u="sng">
                <a:solidFill>
                  <a:srgbClr val="404040"/>
                </a:solidFill>
                <a:uFillTx/>
                <a:latin typeface="Trebuchet MS"/>
              </a:rPr>
              <a:t>Up to the end of 1992 we were bilingual country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Czech part – at school children learnt in Czech – Slovak was taught during grammar lessons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Slovak part - at school children learnt in Slovak – Slovak was taught during grammar lessons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There were lots of programmes on TV in both languages – everybody understands each other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 u="sng">
                <a:solidFill>
                  <a:srgbClr val="404040"/>
                </a:solidFill>
                <a:uFillTx/>
                <a:latin typeface="Trebuchet MS"/>
              </a:rPr>
              <a:t>Nowadays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Little children don‘t understand Slovak, even</a:t>
            </a:r>
            <a:r>
              <a:rPr b="0" lang="cs-CZ" sz="19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though the languages are very similar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90c226"/>
                </a:solidFill>
                <a:latin typeface="Trebuchet MS"/>
              </a:rPr>
              <a:t>Bilingual education – Central Bohemi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77520" y="1657080"/>
            <a:ext cx="8596440" cy="43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 u="sng">
                <a:solidFill>
                  <a:srgbClr val="404040"/>
                </a:solidFill>
                <a:uFillTx/>
                <a:latin typeface="Trebuchet MS"/>
              </a:rPr>
              <a:t>Central Bohemi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Region in the centre of the Czech republic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People speak Czech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Children are taught in Czech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Capital city – Prague – lots of tourists, foreigners = some international school, bilingual schools (mainly Czech/English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Minority – Vietnamese, Romany (the law – more than 10% of minority people in the town/village = school should provide education in children‘s mother tongue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First languages is taught from 3rd grade (age 8 years), second language from 7th or 8th grade (age 13 or 14 years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90c226"/>
                </a:solidFill>
                <a:latin typeface="Trebuchet MS"/>
              </a:rPr>
              <a:t>Languages at our school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77520" y="1414440"/>
            <a:ext cx="85964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 u="sng">
                <a:solidFill>
                  <a:srgbClr val="404040"/>
                </a:solidFill>
                <a:uFillTx/>
                <a:latin typeface="Trebuchet MS"/>
              </a:rPr>
              <a:t>Mnichovice primary and lower secondary schoo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first language is taught from 1st grade (age 6 years)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First language is English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1st and 2nd grade – just speaking (the end of 2nd grade we start with little bit of writing – numbers, colours, animals)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Second language from 6th or 7th grade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Second language can be German, Russian, French, Spanish, Italian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From 6th grade some subjects use CLIL – Geography, Biology, </a:t>
            </a:r>
            <a:r>
              <a:rPr b="0" lang="cs-CZ" sz="1900" spc="-1" strike="noStrike">
                <a:solidFill>
                  <a:srgbClr val="404040"/>
                </a:solidFill>
                <a:latin typeface="Trebuchet MS"/>
              </a:rPr>
              <a:t>ICT, </a:t>
            </a: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Music, Ar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Native speakers as assistants in English lessons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404040"/>
                </a:solidFill>
                <a:latin typeface="Trebuchet MS"/>
              </a:rPr>
              <a:t>Cooperation with neighbouring schools – language competitions 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cs-CZ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 u="sng">
                <a:solidFill>
                  <a:srgbClr val="99ca3c"/>
                </a:solidFill>
                <a:uFillTx/>
                <a:latin typeface="Trebuchet MS"/>
                <a:hlinkClick r:id="rId1"/>
              </a:rPr>
              <a:t>http://vienna-unwrapped.com/wp-content/uploads/2014/03/world_war_i_1914-1918_austria-hungary_map_www.warchat.org_480x338.jpg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2T15:45:58Z</dcterms:created>
  <dc:creator>Dominika Švehlová</dc:creator>
  <dc:description/>
  <dc:language>en-US</dc:language>
  <cp:lastModifiedBy>Dominika Švehlová</cp:lastModifiedBy>
  <dcterms:modified xsi:type="dcterms:W3CDTF">2015-02-22T17:11:41Z</dcterms:modified>
  <cp:revision>6</cp:revision>
  <dc:subject/>
  <dc:title>Bilingual education in the Czech republic</dc:title>
</cp:coreProperties>
</file>