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459-A32B-4D89-944A-2F9529EA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E87-65A4-4E5C-89DD-9AF1AB51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8FB-EB7F-4725-ABD9-C02FEBFD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47E-AA19-43CF-81A7-F07FD9DA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F672-95F0-46ED-B839-F217E9E4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F88D-7C50-4C38-A08D-6ED6605D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8800-8AD4-4C35-B803-18DD51A7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ADBC-D423-4D62-9626-72AC0830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0BC4-89B2-46E5-B521-F99D1551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C45E-5963-4AFB-A50D-6A5A0BB6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5FE7-FB23-437D-A29E-3CC28FBF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20C-CE4C-4CE4-A2E2-C64E1B07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A9A5-27A1-4F88-B77D-2EF277E4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AA8C-7D57-4036-A48A-DB45A48A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779C-7EE1-4A5D-AF68-CE7BAF40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98E6-DF4E-45EA-8C85-11FB9202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1C8D-CDB7-4C99-9C5B-9481F439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8C545-2636-4B51-B1DD-1886796E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FDE9-3407-4C84-816D-08F3F7A5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E213-9548-4F13-8F69-574D492E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CDF7-EFA7-4577-BB72-49527905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D334-C415-486F-A946-72D5F944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3EE-89BB-49C5-B424-1762E976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DB362-E610-47F7-A6B6-58DB0022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E2FA0-9993-451F-953B-EFF935F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40CA-5E87-49BA-98CB-D7B995A3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A64CC-AF0B-4D8B-AA97-0D844FFC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2BD4-05B0-4DE7-869D-F38D173F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4C6F-3754-4AAB-A0E6-CFE1E5FE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8DEB-9F14-45A4-996E-F08CEE57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2BC8C-AA6C-442C-8A90-CFC12CD6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49B35-E76F-4386-9371-5DE02601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C6E1C-EF9E-4E42-84CB-7177EA33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6DD-0E2A-4DB3-AE33-9161D4F5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F65EC-0334-4E0D-920E-6F81FE3E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4A77B-D141-412D-96F8-3C6E1003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78CF-E373-431F-81A1-DCC27534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91979-AC77-4A13-86A7-839EDC06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B52D-56BE-43BF-A9F4-222B11DF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09C2-86F8-491D-98FF-42B6B6F2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429B6-B5C3-4A6B-896A-CF4CA572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0907-378A-498E-AC6F-A5D22199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7145-8D18-4187-A0AE-B9117365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776-1D9A-4082-BC47-D86B77F8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D64-7666-40AB-9879-F94926D4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22F-D5C8-47F9-97A1-C3F082C9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108-09A5-45B7-8C2A-3C3A2B64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FD7-8F03-4FD4-982D-9E54FDA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D2D5-8A90-4EA1-8DCF-A4DF8FD14A3E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CCEB-EB3C-4803-9AB2-D1BF92CFBA3A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1268-BA9F-4850-9195-5034BEEFEB6B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BA8C-2ED7-4D58-BD1E-C8F5D0926C16}" type="slidenum">
              <a:rPr b="0" lang="cs-CZ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enna-unwrapped.com/wp-content/uploads/2014/03/world_war_i_1914-1918_austria-hungary_map_www.warchat.org_480x33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90c226"/>
                </a:solidFill>
                <a:latin typeface="Trebuchet MS"/>
              </a:rPr>
              <a:t>Bilingual education in the Czech republic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rebuchet MS"/>
              </a:rPr>
              <a:t>Bilingual education in Central Boh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57080"/>
            <a:ext cx="497988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1918 – creation of Czechoslovakia (before we were part of Austria-Hungary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, Russian (Sub Carpathian Ruthenia), German (big community); Polish and Hungarian around borders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After WWII. – Czechoslovak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anguages – Czech, Slovak; Polish, Hungarian and German around border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5560920" y="2563920"/>
            <a:ext cx="4572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history overview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During communism time – all schools taught Russi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Up to the end of 1992 we were bilingual country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Czech part – at school children learnt in Czech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lovak part - at school children learnt in Slovak – Slovak was taught during grammar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ere were lots of programmes on TV in both languages – everybody understands each othe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 u="sng">
                <a:solidFill>
                  <a:srgbClr val="404040"/>
                </a:solidFill>
                <a:uFillTx/>
                <a:latin typeface="Trebuchet MS"/>
              </a:rPr>
              <a:t>Nowadays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Little children don‘t understand Slovak, even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though the languages are very similar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Bilingual education – Central Bohemi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7520" y="1657080"/>
            <a:ext cx="85964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Central Bohem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Region in the centre of the Czech republic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People speak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hildren are taught in Czech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Capital city – Prague – lots of tourists, foreigners = some international school, bilingual schools (mainly Czech/English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Minority – Vietnamese, Romany (the law – more than 10% of minority people in the town/village = school should provide education in children‘s mother tongue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404040"/>
                </a:solidFill>
                <a:latin typeface="Trebuchet MS"/>
              </a:rPr>
              <a:t>First languages is taught from 3rd grade (age 8 years), second language from 7th or 8th grade (age 13 or 14 years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90c226"/>
                </a:solidFill>
                <a:latin typeface="Trebuchet MS"/>
              </a:rPr>
              <a:t>Languages at our schoo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1414440"/>
            <a:ext cx="8596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 u="sng">
                <a:solidFill>
                  <a:srgbClr val="404040"/>
                </a:solidFill>
                <a:uFillTx/>
                <a:latin typeface="Trebuchet MS"/>
              </a:rPr>
              <a:t>Mnichovice primary and lower secondary schoo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taught from 1st grade (age 6 year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irst language is English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1st and 2nd grade – just speaking (the end of 2nd grade we start with little bit of writing – numbers, colours, animals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from 6th or 7th grad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Second language can be German, Russian, French, Spanish, Italia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From 6th grade some subjects use CLIL – Geography, Biology, </a:t>
            </a:r>
            <a:r>
              <a:rPr b="0" lang="cs-CZ" sz="1900" spc="-1" strike="noStrike">
                <a:solidFill>
                  <a:srgbClr val="404040"/>
                </a:solidFill>
                <a:latin typeface="Trebuchet MS"/>
              </a:rPr>
              <a:t>ICT, </a:t>
            </a: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Music, Ar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404040"/>
                </a:solidFill>
                <a:latin typeface="Trebuchet MS"/>
              </a:rPr>
              <a:t>Native speakers as assistants in English lesson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404040"/>
                </a:solidFill>
                <a:latin typeface="Trebuchet MS"/>
              </a:rPr>
              <a:t>Cooperation with neighbouring schools – language competitions 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://vienna-unwrapped.com/wp-content/uploads/2014/03/world_war_i_1914-1918_austria-hungary_map_www.warchat.org_480x338.jpg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5:45:58Z</dcterms:created>
  <dc:creator>Dominika Švehlová</dc:creator>
  <dc:description/>
  <dc:language>en-US</dc:language>
  <cp:lastModifiedBy>Dominika Švehlová</cp:lastModifiedBy>
  <dcterms:modified xsi:type="dcterms:W3CDTF">2015-02-22T17:11:41Z</dcterms:modified>
  <cp:revision>6</cp:revision>
  <dc:subject/>
  <dc:title>Bilingual education in the Czech republic</dc:title>
</cp:coreProperties>
</file>