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5DA-8076-4609-8535-908445EF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AD0-07CB-4410-AD38-06A88F98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B3A-7875-448A-BACF-ED1A632F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03C-064E-4D72-9C60-4003450F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0261-7BBE-4FA5-A09F-F682E3CA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4A29-1369-43F5-86DC-412F9E0E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8855-4813-411E-9D91-954D2976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A261-8BFC-43B7-9AD8-3FE4343D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5261-AD1F-490F-BA46-CE43C2D1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BF8F-8702-4D61-A802-21768A4B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C427-DABC-4F3D-9271-C020430C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8D8-C375-436E-AB64-056D921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D3DB-CDCB-4CFD-B633-1DDF8CB3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515B-6272-4649-94B7-A64DBA7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21BE-3940-4E32-9EC3-50438DB6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B2C4-35F2-4577-92AD-C758D280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D76A-23F3-49FB-B0C8-AEB98F10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C567A-8B0A-4421-9044-E06C79BC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4BEB-59A0-42CF-A934-861BF2A2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2BA5-2BCE-46FD-A494-B81B9862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1A362-C821-415C-8A22-626A49E7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CABCB-3982-452B-98B1-71E72794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CDB-F9CB-4171-BE9E-6C6A7849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165E-A3E3-4C1D-B81E-7CE8478C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85CA-7942-4C7A-B3EA-28387A5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F601-F840-449A-853F-E7824A0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C420-D0D3-4CA1-B5A1-57C40A8B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31F78-BF13-4480-9FAA-B2C9E9F1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61B0-2889-48B5-A157-021CA8B5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15AC-AE19-4523-83F4-77EBF5A3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D9673-FF95-42E3-9FEA-5E34BA1D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D563-3109-42C1-8FE8-9AC138AD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C58AF-B011-4563-8969-4DC8018B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18E-02B8-4154-A4ED-CEA6B04A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0212-FC24-4162-923B-4FC4F7FC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FA16-47BA-4A82-9349-CF267658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939B-BC52-4858-93F7-9CE5C001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E0BBA-042E-4476-AEDF-7B84481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CC9F1-8008-4B79-9535-D5CB6DD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DB5F2-ACA6-477D-A091-79D858E1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E21E-44D1-4629-9690-9C8AF760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18485-3AA0-490F-9AC1-C126C23A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8B41-52EE-42F2-82CC-96358EAB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7E5-1612-4B7C-9DE8-6CB96CDE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C06-A41F-476A-9868-2AC2B3FD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5FB-A5F9-425E-A1A4-4652484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920-874D-4BAC-B986-9B851D2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D8F-1471-4FD6-9107-3C7B993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A26E-7BAB-416A-9493-638057497C97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1E4E-A496-4EBA-9351-0D5EE6CEDC2E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7658-9A5A-4B3C-953B-08372762F47A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063D-35E6-40EA-A856-17D707FA0BEF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enna-unwrapped.com/wp-content/uploads/2014/03/world_war_i_1914-1918_austria-hungary_map_www.warchat.org_480x33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90c226"/>
                </a:solidFill>
                <a:latin typeface="Trebuchet MS"/>
              </a:rPr>
              <a:t>Bilingual education in the Czech republic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Bilingual education in Central Boh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57080"/>
            <a:ext cx="497988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1918 – creation of Czechoslovakia (before we were part of Austria-Hungary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, Russian (Sub Carpathian Ruthenia), German (big community); Polish and Hungarian around borders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After WWII. – Czechoslovak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; Polish, Hungarian and German around border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5560920" y="2563920"/>
            <a:ext cx="4572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During communism time – all schools taught Russi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Up to the end of 1992 we were bilingual coun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Czech part – at school children learnt in Czech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lovak part - at school children learnt in Slovak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ere were lots of programmes on TV in both languages – everybody understands each othe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 u="sng">
                <a:solidFill>
                  <a:srgbClr val="404040"/>
                </a:solidFill>
                <a:uFillTx/>
                <a:latin typeface="Trebuchet MS"/>
              </a:rPr>
              <a:t>Nowadays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ittle children don‘t understand Slovak, even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ough the languages are very simila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Central Bohemi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Central Bohem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Region in the centre of the Czech republi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People speak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hildren are taught in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apital city – Prague – lots of tourists, foreigners = some international school, bilingual schools (mainly Czech/English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Minority – Vietnamese, Romany (the law – more than 10% of minority people in the town/village = school should provide education in children‘s mother tongue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First languages is taught from 3rd grade (age 8 years), second language from 7th or 8th grade (age 13 or 14 years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Languages at our schoo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1414440"/>
            <a:ext cx="8596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Mnichovice primary and lower secondary schoo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taught from 1st grade (age 6 year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English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1st and 2nd grade – just speaking (the end of 2nd grade we start with little bit of writing – numbers, colours, animal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from 6th or 7th grad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can be German, Russian, French, Spanish, Italia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rom 6th grade some subjects use CLIL – Geography, Biology, 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ICT,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Music, Ar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Native speakers as assistants in English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404040"/>
                </a:solidFill>
                <a:latin typeface="Trebuchet MS"/>
              </a:rPr>
              <a:t>Cooperation with neighbouring schools – language competitions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://vienna-unwrapped.com/wp-content/uploads/2014/03/world_war_i_1914-1918_austria-hungary_map_www.warchat.org_480x338.jpg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5:45:58Z</dcterms:created>
  <dc:creator>Dominika Švehlová</dc:creator>
  <dc:description/>
  <dc:language>en-US</dc:language>
  <cp:lastModifiedBy>Dominika Švehlová</cp:lastModifiedBy>
  <dcterms:modified xsi:type="dcterms:W3CDTF">2015-02-22T17:11:41Z</dcterms:modified>
  <cp:revision>6</cp:revision>
  <dc:subject/>
  <dc:title>Bilingual education in the Czech republic</dc:title>
</cp:coreProperties>
</file>