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2F9-D139-4FFE-907D-9A5835BD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8CF-7A95-44B0-813F-E42D44C2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877-A8EE-4BD3-90CA-6F6F14BE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23A-105C-4AE7-BAB0-5232CEB9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8290-EAAA-4586-BA41-5FA5B1CC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24AB-D509-47CA-B8E9-D886E35B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47CC-91E4-448A-B96B-1D89F952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ECAD-7E24-4263-85AA-1885B236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A7A7-AAA5-4232-A4BA-DD5B2FE1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734A-AA77-44A2-BDB4-41D97F9F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16FC-21E1-4C2B-B81F-4663A2E4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AC5-361F-46D5-8574-941AC1E0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D1C5-0948-42F1-8C69-BDC226D1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A321-821A-44BF-9291-5BB3195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8BA0-B629-4F91-86FF-766BBE39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5FA-3652-450D-81A7-B6D14D21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5552-4FCB-459D-9B2A-ADD94A2A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AE0-FD2D-42C9-B513-2AA10E2E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525-7DEB-4515-A604-E8523306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AD8-295C-477E-A4CA-32166611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E48-1A97-44BD-B6BC-0C71A6F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F16-FBF4-4516-89AF-426D6461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BF6-621A-41FD-80CF-2346BA55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493-E92B-4681-AC37-6DC1326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B8B6-585F-4AF9-8A22-BDB4416621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0796-8518-4612-93B7-F0DEC4DDB1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17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Bilingual education</a:t>
            </a:r>
            <a:br>
              <a:rPr sz="5400"/>
            </a:br>
            <a:r>
              <a:rPr b="1" lang="tr-TR" sz="5400" spc="-1" strike="noStrike">
                <a:solidFill>
                  <a:srgbClr val="9933ff"/>
                </a:solidFill>
                <a:latin typeface="Arial"/>
              </a:rPr>
              <a:t> in TURK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2736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In Turkey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ople speak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ren are taught in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kara, Istanbul, Izmir et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lots of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igners = some international schoo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bilingual schools (mainly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urk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/Eng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language is taught from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rade (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ear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in public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private schools, at 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of 3 pupils start to be taught the first language</a:t>
            </a: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most of the private schools; from the age of 2, English is taught in “sandwich lessons”</a:t>
            </a: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2491920"/>
            <a:ext cx="69120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Çift Dilli (Bilingual) Eğitim Programı"/>
          <p:cNvPicPr/>
          <p:nvPr/>
        </p:nvPicPr>
        <p:blipFill>
          <a:blip r:embed="rId1"/>
          <a:stretch/>
        </p:blipFill>
        <p:spPr>
          <a:xfrm>
            <a:off x="1116000" y="2492280"/>
            <a:ext cx="6912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Sandwich less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lesson in which both English and class teacher teach at the same time to make pupils be familiar with the foreig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Bilingualism in Anatolia before Tu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constitution of three continents: ANATOLIA- the cradle of many civil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ncient Anatolia, bilingual scripts  came out as a result of language cont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00360" y="1628640"/>
            <a:ext cx="4181400" cy="4530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2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Bilingualism in Anatolia after Tu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efore coming to Anatolia, the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litist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fol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ypes of bilingualism were  Turkish, Gothic and Latin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2920" y="3933360"/>
            <a:ext cx="691380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1071 sonrası anadolu ile ilgili görsel sonucu"/>
          <p:cNvPicPr/>
          <p:nvPr/>
        </p:nvPicPr>
        <p:blipFill>
          <a:blip r:embed="rId2"/>
          <a:stretch/>
        </p:blipFill>
        <p:spPr>
          <a:xfrm>
            <a:off x="1403280" y="3716280"/>
            <a:ext cx="69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Converting to Isl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fter Islam, intellectuals created a diglossic society by creating a high variety called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Osmanlic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a mixed language  of Turkish, Arabic and Pers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Ottoman Empire era (1299-192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uring the time of the Ottoman Empire, there had been many speech communities speaking different languages (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There were 22 non-islamic groups 47 ethnic groups (including  islamic and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 non-islamic groups)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2920" y="1773000"/>
            <a:ext cx="40388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1800" y="1773360"/>
            <a:ext cx="4732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Republic era ( 1923- … 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he Turkish Language Associati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was founded in 1932 with an important aim to purify the Turkish language of Arabic and Persian words and to standardize the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urkish was accepted as the only medium of instruction in public schools. However, foreign language courses were also allowed to be taught at secondary and high schools and univers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724360" y="1628280"/>
            <a:ext cx="295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Folk bilingualism in Turke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distinction between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onal language”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d “</a:t>
            </a: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native languag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re are many languages spoken in Turkey besides Official Turkish L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is is because of multi- ethnicity, multi-culturalism, soci-economic diversity, urban-rural distinction, dominant- recessive languages, politics and im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most issued one of those languages is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Kurdish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Kurdish – the mother tongue of our Southea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South-eastern part of Turkey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urdish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language is the mother tongu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t the very beginning of Primary Education, the Kurdish pupils have to make a lot more efforts than the students whose mother Tongue is already Turk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6920" y="3933360"/>
            <a:ext cx="648036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69120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English as the first langu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English language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s the language of privilege or prestige during education life or work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n a way English is institutionalized in each phase of education starting from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indergar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3T21:34:40Z</dcterms:created>
  <dc:creator>ayaz</dc:creator>
  <dc:description/>
  <dc:language>en-US</dc:language>
  <cp:lastModifiedBy>ayaz</cp:lastModifiedBy>
  <dcterms:modified xsi:type="dcterms:W3CDTF">2015-02-23T22:55:28Z</dcterms:modified>
  <cp:revision>4</cp:revision>
  <dc:subject/>
  <dc:title>Bilingualism in TURKEY</dc:title>
</cp:coreProperties>
</file>