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5E03-E34A-4782-9857-6E6879C4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F8B-05E4-4EAC-A6CF-DF5107B6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C9F-BA2D-45E6-B40F-C14D52F0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2A5-AADE-4F22-A1B0-E206FE91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21A8-6A2F-4042-A56A-E507CA7D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F6A0-521E-40DD-853F-F7478F3A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499B-7AC4-4F76-A88B-F77365E4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7259-020A-4204-9730-EE252540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D084-45AD-4BE2-BF34-C21E023F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484F-DAA1-4BAC-AFAC-CB9F8BB6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BCAA-C8FA-4F7D-99BA-BCE9266D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142-D4C6-4352-AF87-CBA707A5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095E-8933-47FC-8A3C-60365D99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6B92-51AA-48D2-AAA4-AFDD36C0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A8B2-9467-4EFD-9A9D-2DBD78DA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5A1D-50C2-4351-ADF2-B2C9368C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5E6E-1A65-45A4-8107-5EF6771F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C56-9FEA-476E-90A7-2AAB3AE7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4C2-AA57-476E-80D5-DFB7C92C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F1F-41F8-497E-ADB3-268F7930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10A-6729-4CDC-AC98-8514ECF5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BA2-88CC-46FF-8D12-228AEF7A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EF0-C6D7-4FC2-8D26-DF041E29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CF9-0D38-41FD-9E76-00DE890D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68BB-D869-4114-B147-1C3D00C532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2E42-2E64-431A-B4DB-679D439357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83170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tr-TR" sz="5400" spc="-1" strike="noStrike">
                <a:solidFill>
                  <a:srgbClr val="9933ff"/>
                </a:solidFill>
                <a:latin typeface="Arial"/>
              </a:rPr>
              <a:t>Bilingual education</a:t>
            </a:r>
            <a:br>
              <a:rPr sz="5400"/>
            </a:br>
            <a:r>
              <a:rPr b="1" lang="tr-TR" sz="5400" spc="-1" strike="noStrike">
                <a:solidFill>
                  <a:srgbClr val="9933ff"/>
                </a:solidFill>
                <a:latin typeface="Arial"/>
              </a:rPr>
              <a:t> in TURK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27367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000000"/>
                </a:solidFill>
                <a:latin typeface="Arial"/>
              </a:rPr>
              <a:t>In Turkey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ople speak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urk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ildren are taught in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urk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kara, Istanbul, Izmir etc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lots of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eigners = some international schoo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bilingual schools (mainly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urkis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Engli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language is taught from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grade (ag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years)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in public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private schools, at th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of 3 pupils start to be taught the first language</a:t>
            </a: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most of the private schools; from the age of 2, English is taught in “sandwich lessons”</a:t>
            </a: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6000" y="2491920"/>
            <a:ext cx="69120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Çift Dilli (Bilingual) Eğitim Programı"/>
          <p:cNvPicPr/>
          <p:nvPr/>
        </p:nvPicPr>
        <p:blipFill>
          <a:blip r:embed="rId1"/>
          <a:stretch/>
        </p:blipFill>
        <p:spPr>
          <a:xfrm>
            <a:off x="1116000" y="2492280"/>
            <a:ext cx="69120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Sandwich lesson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lesson in which both English and class teacher teach at the same time to make pupils be familiar with the foreign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Bilingualism in Anatolia before Tu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constitution of three continents: ANATOLIA- the cradle of many civil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ancient Anatolia, bilingual scripts  came out as a result of language cont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00360" y="1628640"/>
            <a:ext cx="4181400" cy="4530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248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Bilingualism in Anatolia after Tur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efore coming to Anatolia, the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elitis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folk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types of bilingualism were  Turkish, Gothic and Latin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2920" y="3933360"/>
            <a:ext cx="6913800" cy="2189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1071 sonrası anadolu ile ilgili görsel sonucu"/>
          <p:cNvPicPr/>
          <p:nvPr/>
        </p:nvPicPr>
        <p:blipFill>
          <a:blip r:embed="rId2"/>
          <a:stretch/>
        </p:blipFill>
        <p:spPr>
          <a:xfrm>
            <a:off x="1403280" y="3716280"/>
            <a:ext cx="691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Converting to Isl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fter Islam, intellectuals created a diglossic society by creating a high variety called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Osmanlic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, a mixed language  of Turkish, Arabic and Persi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Ottoman Empire era (1299-192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uring the time of the Ottoman Empire, there had been many speech communities speaking different languages (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There were 22 non-islamic groups 47 ethnic groups (including  islamic and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 non-islamic groups)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2920" y="1773000"/>
            <a:ext cx="403884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1800" y="1773360"/>
            <a:ext cx="47322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Republic era ( 1923- … 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he Turkish Language Associati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was founded in 1932 with an important aim to purify the Turkish language of Arabic and Persian words and to standardize the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urkish was accepted as the only medium of instruction in public schools. However, foreign language courses were also allowed to be taught at secondary and high schools and univers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724360" y="1628280"/>
            <a:ext cx="2957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2879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Folk bilingualism in Turke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distinction between “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ational language”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d “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ative languag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re are many languages spoken in Turkey besides Official Turkish Langu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is is because of multi- ethnicity, multi-culturalism, soci-economic diversity, urban-rural distinction, dominant- recessive languages, politics and immig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most issued one of those languages is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urdish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Kurdish – the mother tongue of our Southea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South-eastern part of Turkey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urdish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language is the mother tongu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t the very beginning of Primary Education, the Kurdish pupils have to make a lot more efforts than the students whose mother Tongue is already Turk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6920" y="3933360"/>
            <a:ext cx="6480360" cy="2189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16000" y="3860640"/>
            <a:ext cx="69120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000000"/>
                </a:solidFill>
                <a:latin typeface="Arial"/>
              </a:rPr>
              <a:t>English as the first langua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English languag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s the language of privilege or prestige during education life or work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a way English is institutionalized in each phase of education starting from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indergar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21:34:40Z</dcterms:created>
  <dc:creator>ayaz</dc:creator>
  <dc:description/>
  <dc:language>en-US</dc:language>
  <cp:lastModifiedBy>ayaz</cp:lastModifiedBy>
  <dcterms:modified xsi:type="dcterms:W3CDTF">2015-02-23T22:55:28Z</dcterms:modified>
  <cp:revision>4</cp:revision>
  <dc:subject/>
  <dc:title>Bilingualism in TURKEY</dc:title>
</cp:coreProperties>
</file>