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B63-012F-4D28-B555-C8EA89B4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3F7-C2DF-4CC5-BA4F-2D333FDD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485-4FD6-4434-BC27-D3F7A9BC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833-7232-47A4-A94C-0714CDE1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B23A-4714-4828-8E5C-AC2DC0B3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5248-C8B9-480E-89A3-381FB18C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CE71-1AAD-4671-A3D1-5669166D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50E0-F35F-41E1-9673-CD6A8A97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14B2-20CE-447C-B9A2-CD28654E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A1E1-35A8-4D1C-BE3A-7464F436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1C48-93C8-478B-A496-AF0163F4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F3F-5558-46BB-A64B-0820F881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D398-ACAF-4859-83B6-D3C6242B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1C96-5CA8-44CC-9756-A664E0C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8BEA-A631-4041-A77A-2D876ED9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4C0D-B08F-4D8B-AAB8-C72CC0F6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4FA9-718F-4670-9285-ED7BEAD2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679-A0EF-4CC0-96D6-140F74D0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83D-4138-43F7-8E2E-8EEDF3DA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57F-FFDC-4D7A-82CB-808BC8A5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652-62EF-401A-BD95-D17FF2CD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9DE-D291-484B-8E9D-04A024C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F79-F3A7-46CE-86C8-97CAC4F6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C78-0139-45FA-BAB8-8C422D1A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A10D-F463-4D55-9E4E-F6ACC79355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F282-AED3-468C-86FD-5372AA969D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3170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Bilingual education</a:t>
            </a:r>
            <a:br>
              <a:rPr sz="5400"/>
            </a:b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in TURK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2736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In Turke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ople speak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ren are taught i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kara, Istanbul, Izmir etc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lots of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igners = some international schoo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bilingual schools (mainly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Eng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language is taught from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rade (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year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in public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private schools, at th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of 3 pupils start to be taught the first language</a:t>
            </a: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most of the private schools; from the age of 2, English is taught in “sandwich lessons”</a:t>
            </a: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6000" y="2491920"/>
            <a:ext cx="69120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Çift Dilli (Bilingual) Eğitim Programı"/>
          <p:cNvPicPr/>
          <p:nvPr/>
        </p:nvPicPr>
        <p:blipFill>
          <a:blip r:embed="rId1"/>
          <a:stretch/>
        </p:blipFill>
        <p:spPr>
          <a:xfrm>
            <a:off x="1116000" y="2492280"/>
            <a:ext cx="6912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Sandwich less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lesson in which both English and class teacher teach at the same time to make pupils be familiar with the foreign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Bilingualism in Anatolia before Tu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constitution of three continents: ANATOLIA- the cradle of many civil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ncient Anatolia, bilingual scripts  came out as a result of language cont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00360" y="1628640"/>
            <a:ext cx="4181400" cy="4530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24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Bilingualism in Anatolia after Tu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efore coming to Anatolia, the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litis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fol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ypes of bilingualism were  Turkish, Gothic and Latin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2920" y="3933360"/>
            <a:ext cx="691380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1071 sonrası anadolu ile ilgili görsel sonucu"/>
          <p:cNvPicPr/>
          <p:nvPr/>
        </p:nvPicPr>
        <p:blipFill>
          <a:blip r:embed="rId2"/>
          <a:stretch/>
        </p:blipFill>
        <p:spPr>
          <a:xfrm>
            <a:off x="1403280" y="3716280"/>
            <a:ext cx="691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Converting to Isl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fter Islam, intellectuals created a diglossic society by creating a high variety called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Osmanlic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a mixed language  of Turkish, Arabic and Persi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Ottoman Empire era (1299-192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uring the time of the Ottoman Empire, there had been many speech communities speaking different languages (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here were 22 non-islamic groups 47 ethnic groups (including  islamic an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 non-islamic group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2920" y="1773000"/>
            <a:ext cx="40388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1800" y="1773360"/>
            <a:ext cx="47322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Republic era ( 1923- … 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he Turkish Language Associati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was founded in 1932 with an important aim to purify the Turkish language of Arabic and Persian words and to standardize the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urkish was accepted as the only medium of instruction in public schools. However, foreign language courses were also allowed to be taught at secondary and high schools and univers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724360" y="1628280"/>
            <a:ext cx="2957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Folk bilingualism in Turke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distinction between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onal language”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d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ve langu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re are many languages spoken in Turkey besides Official Turkish Langu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is is because of multi- ethnicity, multi-culturalism, soci-economic diversity, urban-rural distinction, dominant- recessive languages, politics and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most issued one of those languages is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urdish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Kurdish – the mother tongue of our Southea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South-eastern part of Turkey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rdish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language is the mother tongu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t the very beginning of Primary Education, the Kurdish pupils have to make a lot more efforts than the students whose mother Tongue is already Turk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6920" y="3933360"/>
            <a:ext cx="648036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69120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English as the first langu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nglish langu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s the language of privilege or prestige during education life or work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 way English is institutionalized in each phase of education starting from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indergar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21:34:40Z</dcterms:created>
  <dc:creator>ayaz</dc:creator>
  <dc:description/>
  <dc:language>en-US</dc:language>
  <cp:lastModifiedBy>ayaz</cp:lastModifiedBy>
  <dcterms:modified xsi:type="dcterms:W3CDTF">2015-02-23T22:55:28Z</dcterms:modified>
  <cp:revision>4</cp:revision>
  <dc:subject/>
  <dc:title>Bilingualism in TURKEY</dc:title>
</cp:coreProperties>
</file>