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1AA-B907-4DF3-8C5C-CF72388D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393-C30B-4C98-A92A-D8AE7286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DD0-EA77-4C66-B832-C84E7670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43B-BA2B-402E-98E9-510A9975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660F-6633-4FA6-9FEA-151BE547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456A-6B5D-4C4F-9DBD-6A589A6E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56E2-F11D-4607-B96C-14CC82D8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D4F6-567A-403B-9007-C6A0DA18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D2A0-7E8F-4AF2-A342-F75C3057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B439-2A71-46B2-8521-1700CF42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A92C-D193-4179-9F09-955EA37C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DA5-25EF-433D-9151-147D599E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ED49-1123-4866-8896-B52C1F5C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545E-B9AE-4708-8EC3-B4DBDE86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DDD8-AB6C-49F3-AA83-1701DE6D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8D19-8490-4C0C-856C-55E2E032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86C4-6913-473D-A282-FB9F4797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A51-F05C-4AF9-B88D-5DB6881C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014-3526-4DF7-8A0D-6EA45F40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3AA-E961-4DC8-92D1-6F15BFA7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410-5BFA-4ED8-8007-FE831B73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F7B-070B-43E1-941B-A0B9A192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0C7-0E95-4582-B88E-580349DB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87D-B0EF-4B01-A7C4-AAD668A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C766-14AE-4E22-B2E9-16B3E6885A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53F6-D291-4825-8DFD-EE49584552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3170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Bilingual education</a:t>
            </a:r>
            <a:br>
              <a:rPr sz="5400"/>
            </a:b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 in TURK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2736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In Turkey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ople speak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ldren are taught in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kara, Istanbul, Izmir etc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lots of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igners = some international schoo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bilingual schools (mainly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Engl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language is taught from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grade (ag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years)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in public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private schools, at th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of 3 pupils start to be taught the first language</a:t>
            </a: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most of the private schools; from the age of 2, English is taught in “sandwich lessons”</a:t>
            </a: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6000" y="2491920"/>
            <a:ext cx="69120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Çift Dilli (Bilingual) Eğitim Programı"/>
          <p:cNvPicPr/>
          <p:nvPr/>
        </p:nvPicPr>
        <p:blipFill>
          <a:blip r:embed="rId1"/>
          <a:stretch/>
        </p:blipFill>
        <p:spPr>
          <a:xfrm>
            <a:off x="1116000" y="2492280"/>
            <a:ext cx="6912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Sandwich less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lesson in which both English and class teacher teach at the same time to make pupils be familiar with the foreign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Bilingualism in Anatolia before Tu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constitution of three continents: ANATOLIA- the cradle of many civil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ancient Anatolia, bilingual scripts  came out as a result of language cont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00360" y="1628640"/>
            <a:ext cx="4181400" cy="4530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248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Bilingualism in Anatolia after Tu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efore coming to Anatolia, the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litis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fol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ypes of bilingualism were  Turkish, Gothic and Latin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2920" y="3933360"/>
            <a:ext cx="6913800" cy="2189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1071 sonrası anadolu ile ilgili görsel sonucu"/>
          <p:cNvPicPr/>
          <p:nvPr/>
        </p:nvPicPr>
        <p:blipFill>
          <a:blip r:embed="rId2"/>
          <a:stretch/>
        </p:blipFill>
        <p:spPr>
          <a:xfrm>
            <a:off x="1403280" y="3716280"/>
            <a:ext cx="691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Converting to Isl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fter Islam, intellectuals created a diglossic society by creating a high variety called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Osmanlic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a mixed language  of Turkish, Arabic and Persi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Ottoman Empire era (1299-192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uring the time of the Ottoman Empire, there had been many speech communities speaking different languages (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here were 22 non-islamic groups 47 ethnic groups (including  islamic an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 non-islamic groups)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2920" y="1773000"/>
            <a:ext cx="40388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1800" y="1773360"/>
            <a:ext cx="47322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Republic era ( 1923- … 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he Turkish Language Associati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was founded in 1932 with an important aim to purify the Turkish language of Arabic and Persian words and to standardize the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urkish was accepted as the only medium of instruction in public schools. However, foreign language courses were also allowed to be taught at secondary and high schools and univers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724360" y="1628280"/>
            <a:ext cx="2957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879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Folk bilingualism in Turke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distinction between “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ational language”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d “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ative languag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re are many languages spoken in Turkey besides Official Turkish Langu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is is because of multi- ethnicity, multi-culturalism, soci-economic diversity, urban-rural distinction, dominant- recessive languages, politics and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most issued one of those languages is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urdish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Kurdish – the mother tongue of our Southea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South-eastern part of Turkey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rdish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language is the mother tongu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t the very beginning of Primary Education, the Kurdish pupils have to make a lot more efforts than the students whose mother Tongue is already Turk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6920" y="3933360"/>
            <a:ext cx="648036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69120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English as the first langu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nglish languag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s the language of privilege or prestige during education life or work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a way English is institutionalized in each phase of education starting from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indergar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21:34:40Z</dcterms:created>
  <dc:creator>ayaz</dc:creator>
  <dc:description/>
  <dc:language>en-US</dc:language>
  <cp:lastModifiedBy>ayaz</cp:lastModifiedBy>
  <dcterms:modified xsi:type="dcterms:W3CDTF">2015-02-23T22:55:28Z</dcterms:modified>
  <cp:revision>4</cp:revision>
  <dc:subject/>
  <dc:title>Bilingualism in TURKEY</dc:title>
</cp:coreProperties>
</file>