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0EB-4780-4D73-9B43-4058A368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952-E66A-4C4B-B2FE-8506E69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EFE-9D1A-4B27-B87D-F3E69AAC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96B-7FBF-4694-AEFF-AB759ADD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DD73-EAAF-46AF-A110-A76A4C00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8FF7-F947-4DFE-8ECD-9BEBEDA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239-9669-431C-9D22-9D30348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CEE7-B55F-4DEB-A3DD-91651A8B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5469-BAE0-4A2F-8AC3-5C6498C9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519-8B69-42A8-B40B-617FCED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E34-BE95-4BFB-9748-A1CAA67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D7C-3234-4958-8F4C-AB57648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B6DC-EC22-48A8-8C72-B4D4FAB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F2EF-95B0-45EF-8BCF-DB08246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0A6-A706-48B8-8B09-88410617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40F-7532-40E0-BF4E-B6FD8196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3AF4-A331-4380-A30B-37A924B3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517B7-FBF5-4E41-BED2-526A45A7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FC502-F351-4C5C-AEC7-65FF949C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55E84-FEC5-4AD7-9DE8-54326EFC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7B12F-7724-46D2-85A6-91C9BF56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859C9-6718-413E-A72E-2AF641F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0AD-1765-4109-A2D4-749F72B5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5F0AA-556A-4CBB-AA54-71A77AA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8B51E-68D6-4235-BE4B-F3EED75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9E34B-D64E-4EA7-A8DC-F60C102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C025-EFA4-4233-8509-E4A7022A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AC08D-48F6-4991-BA94-680035BF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A7F3A-469D-40DD-AFF7-F52A8CE4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44B54-E04D-4A8E-83CB-CD0C6FEE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2941-907F-43AE-BA31-784A3C6A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F622-B45B-4A66-9F27-DA575AB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E2DF-7CD8-4B57-AB39-56716D1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45C-065A-4AC0-9589-154D8BA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B3AA-339B-4F84-AE83-BBE35F2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1E0F6-A91C-4D2B-B7E9-A0FE8EB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FD37-5FC0-405B-B68D-34A1D8F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54D6-046A-4592-A143-9B0DFED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1970-3D76-4FC0-B37C-F10C959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844B-1422-4EB6-960E-F98E811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CD3E-E308-4B29-A1A7-B41C80D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ABC3-0AE3-493B-AD26-91AC1BF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A64B-115A-4036-AEF5-AE0A351C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3FB27-BBBE-41F3-B1CB-9468C66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14A-2AE8-4B48-8423-1C43314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F53C1-BB4E-4CF9-960F-C1ECDE8A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07D3D-692B-4CA2-A636-81082863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650CB-7730-4C39-B0C3-5EAB211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207DD-679B-4918-A5C9-09D0AFF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58194-BB07-45A3-BDA4-F5D64236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26959-7427-4D7E-A6BE-27AED4B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60B53-AAF5-4F21-A9E9-10AA778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DFDBB-6EC5-4728-BBB4-F271E55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5A203-0560-4F48-89BC-5B0521F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EFBFF-83DD-4D1A-93FE-0561FE05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071-0F64-49D6-B694-3735CE0F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FE6C9-4C8F-4C08-9BE1-68E6C17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898CB-F9C7-4B52-8E7D-0F834CB4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1F160-7307-40BB-9794-EE683AF7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BEB79-6E56-4746-8006-D565EE5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939F0-251F-486A-85C1-FA710877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F9AA6-B099-4503-B871-F5A86F5A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8FBE2-C8A9-4552-B114-1E8BCAF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292DB-F2C0-434F-8CEB-35DDA87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79DC2-E1EB-467C-BB63-3B4E5C33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2E8B3-BFE1-4AB5-9D29-852BC93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DA2-D561-46FB-9747-C4D4ABA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755EA-9593-4F11-9276-693FD9B5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FB353-BF33-4E8D-9E43-467969D0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11F17-5B14-4450-8875-1EBCE0F2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0AC4D-CDFA-41F1-A698-81CDCA19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FF24D-2120-4838-975E-AC07D37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0AC6B-F4E7-4205-A9B3-654370B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A896D-0187-4424-AE28-D874E13B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D4979-0D91-42A7-9172-DA6C1E3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694E3-0B09-4F08-B1C2-9ABD346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B32C1-E0EF-4ADE-83AF-4EFC3B5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E16-8057-49B5-BF0F-D8C9CBA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25B90-FFE1-4159-8695-6E74F30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7274B-4866-41BD-B1CB-9905B98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5C21A-C473-4144-8AAD-A17F8BB9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C3184-60E7-40E7-AAF5-15B18C83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A19DE-19E6-47EA-A6F5-65132760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4A7-2B2F-4F38-9D4A-02FD735D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AA85-6CF4-48EF-8659-01831F3E5EE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B02-9D1D-45F3-96AC-20971144B91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9405-E5DA-4156-8A05-F55F87F328E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19D-DBCF-40FE-BB48-A0974655BC33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6F7-1390-4E9C-B955-9A21A4DA29C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560-C443-456B-847C-C84EE8786E1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2F14-59EC-46D8-B8CB-2C6F3BBD7FA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42148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CS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SAN DOMENICO SAVIO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ITALY</a:t>
            </a:r>
            <a:br>
              <a:rPr sz="2400"/>
            </a:br>
            <a:r>
              <a:rPr b="1" lang="it-IT" sz="2400" spc="-1" strike="noStrike">
                <a:solidFill>
                  <a:srgbClr val="0b5395"/>
                </a:solidFill>
                <a:latin typeface="Century Schoolbook"/>
              </a:rPr>
              <a:t>ERASMUS +</a:t>
            </a:r>
            <a:endParaRPr b="0" lang="en-US" sz="24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3500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BILINGUAL EDU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5395"/>
                </a:solidFill>
                <a:latin typeface="Century Schoolbook"/>
              </a:rPr>
              <a:t>IN ITA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00800" y="868320"/>
            <a:ext cx="3206520" cy="63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CasellaDiTesto 5"/>
          <p:cNvSpPr/>
          <p:nvPr/>
        </p:nvSpPr>
        <p:spPr>
          <a:xfrm>
            <a:off x="2286000" y="12142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bout in 1994, the use of CLIL (Content and Language Integrated Learning) in Italian Schools had more development  in the Italian Bilingual Regions (language immersion): Piemonte, Valle d’Aosta, Lombardia, Trentino, Veneto, on the border with France, Switzerland, Austria and Slovenia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http://www.webalice.it/renza.proch/ITALIA_1/images/italia_politica.jpg"/>
          <p:cNvPicPr/>
          <p:nvPr/>
        </p:nvPicPr>
        <p:blipFill>
          <a:blip r:embed="rId2"/>
          <a:stretch/>
        </p:blipFill>
        <p:spPr>
          <a:xfrm>
            <a:off x="3643200" y="3000240"/>
            <a:ext cx="31672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ttangolo 3"/>
          <p:cNvSpPr/>
          <p:nvPr/>
        </p:nvSpPr>
        <p:spPr>
          <a:xfrm>
            <a:off x="2286000" y="1285920"/>
            <a:ext cx="55008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nce 2010, the Italian School Reform introduced in the High Secondary School (14/18 years) the teaching of a subject (History, Geography, Science, …) in foreign language  according to the methodology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’ Training Courses have therefore been started for the acquisition of skills on CLIL methodology and the acquisition of language skills up to the C1 (CEFR)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especially in Englis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600" y="428760"/>
            <a:ext cx="560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http://www.didatticachimica.it/wp-content/uploads/2013/05/CLIL-e-termini-correlati.jpg"/>
          <p:cNvPicPr/>
          <p:nvPr/>
        </p:nvPicPr>
        <p:blipFill>
          <a:blip r:embed="rId2"/>
          <a:stretch/>
        </p:blipFill>
        <p:spPr>
          <a:xfrm>
            <a:off x="3214800" y="4143240"/>
            <a:ext cx="4238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5"/>
          <p:cNvSpPr/>
          <p:nvPr/>
        </p:nvSpPr>
        <p:spPr>
          <a:xfrm>
            <a:off x="2357280" y="1785960"/>
            <a:ext cx="59295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n Primary (8/11 years) and Lower Secondary School (11/13 years) the teaching in English of a subject (History, Geography, Science, …), according to the methodology CLIL,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s at the beginning stage and it’s esperimen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is due to several reas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eachers of the older generation, who have high skills in English, are only English Specialist Teache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nly recently have been introduced high English language courses in University Programs, which are not only of Foreign Linguistic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re are still few trained teachers for CLI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856880" y="35676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6880" y="499680"/>
            <a:ext cx="40006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Bilingual Education 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Century Schoolbook"/>
              </a:rPr>
              <a:t>Our Sch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715080" y="500040"/>
            <a:ext cx="1992240" cy="392040"/>
          </a:xfrm>
          <a:prstGeom prst="rect">
            <a:avLst/>
          </a:prstGeom>
          <a:ln w="0">
            <a:noFill/>
          </a:ln>
        </p:spPr>
      </p:pic>
      <p:sp>
        <p:nvSpPr>
          <p:cNvPr id="367" name="CasellaDiTesto 5"/>
          <p:cNvSpPr/>
          <p:nvPr/>
        </p:nvSpPr>
        <p:spPr>
          <a:xfrm>
            <a:off x="2428920" y="1500120"/>
            <a:ext cx="607212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Primary School (8/11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only Foreign Language is English: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stening, reading and understanding simple phrases, copying correctly, writing short phrases, following a given model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5395"/>
                </a:solidFill>
                <a:latin typeface="Century Schoolbook"/>
              </a:rPr>
              <a:t>Lower Secondary School (11/13 year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First Foreign Language is Engl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aching the level of the European Language Portfolio A2 through the integration of various skills: listening, reading, speaking, writing, oral interaction and written interactio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cond Foreign Language is Spanish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istening and understanding comprehensively the spoken and written language.</a:t>
            </a:r>
            <a:r>
              <a:rPr b="0" lang="it-IT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xpressing appropriately in speaking and writing interaction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No subject uses CLIL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e are planning strategies for the use of CLIL, through European funding or families’ private contribution, to have mother tongue</a:t>
            </a:r>
            <a:r>
              <a:rPr b="0" lang="en-GB" sz="1600" spc="-1" strike="noStrike">
                <a:solidFill>
                  <a:srgbClr val="404040"/>
                </a:solidFill>
                <a:latin typeface="Century Schoolboo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entury Schoolbook"/>
              </a:rPr>
              <a:t>speakers as assistants in several lesson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13:29:51Z</dcterms:created>
  <dc:creator>xxxxx</dc:creator>
  <dc:description/>
  <dc:language>en-US</dc:language>
  <cp:lastModifiedBy>xxxxx</cp:lastModifiedBy>
  <dcterms:modified xsi:type="dcterms:W3CDTF">2015-02-23T19:52:03Z</dcterms:modified>
  <cp:revision>31</cp:revision>
  <dc:subject/>
  <dc:title>clil</dc:title>
</cp:coreProperties>
</file>