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6F9-0EA8-464F-B172-CCEF7B82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CC12-B148-43E1-A6BE-E0CA0BBA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F39-74E1-4C82-80F6-5E5A6FD4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228-DCAF-47F9-B9D1-796F6C1B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8312-1001-44D9-8199-02FD3E3E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25C9-D44B-431F-85FF-28C5DD16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C93A-3BF5-49C0-AE65-2A227904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56C1-8A09-475C-BFA5-2D32A55F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27D6-25FF-49F6-A2D3-5F5CE6C6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EE2D-14BB-40EF-8964-DE491F17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53E9-8ABC-4B4F-B88B-4DDFB284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C19-DF74-412E-9485-709BE8E2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41E3-C528-466E-ABF5-EB017699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7955-1EF0-4963-B2EA-8CFA2E24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8BA8-2B62-4A40-AAAB-53B05C12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1130-8A4F-46E9-8CDB-92D6190F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7916-B069-495C-8D88-32456B53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35A2C-3C5D-4590-BCCE-CE96DF6E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C0129-71B9-456F-996F-092F6914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DA0B5-5A8B-418A-8B7B-1D84735D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DA7C9-1456-443E-9AAB-ED4FA28C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B0C18-6396-48E3-AD1A-088A00FF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36B-5B54-4692-A1DB-9D7147B3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3FBE4-C4AC-4757-BEA8-655F1261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B04F7-CD66-4966-A446-07BF7A8E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8388A-5F9A-4319-BD15-C90AEEC5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84E86-83F7-4B41-935C-2C64E861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7D0EE-849A-4367-B5BA-1841E95D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45A3B-59FB-4362-8520-0D53EB78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C55FE-03C0-480A-BAA1-CD0CF4DC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99FC9-1E81-4277-AF3E-1DA687FF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D58A8-901F-42EE-8966-D79DD77A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DC8FE-BB93-40D9-8CEA-5E51194B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E9E3-B1BB-4F15-B40B-6365EFEE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700FD-6116-48E0-9782-4DE94E01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3CAA4-C1DE-4135-8512-4D2DD9FF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DDF86-E966-4A95-A413-321BCBBB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E09F4-4A3F-4BD8-8DE9-BFAD82D3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46201-8275-4726-99EE-BC154025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AFEAF-1711-48D1-823A-D5680291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1D488-E2C7-4695-A933-7F61A8E7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B207B-CFA1-4674-BADB-8CE44F48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0A578-2D16-47AC-AAA2-DF30AC23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2E3032-4716-421A-AD58-1B4B98ED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7DD-9178-4B90-8030-E83EBF50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00265-283E-43DD-BA2C-D5DB2CA0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F176E-9460-4746-8FBA-98289918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EE4DD3-6655-45F1-B7BA-7F1B42B8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39600-8A32-4996-BFEC-40CD7E22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282A47-3DE8-4F74-9AD2-E3851902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B331C6-69BC-4C93-ACF0-5757F402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1359EE-A76C-418A-8293-CEB9E7D1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71EFA-1AC7-47C8-85E2-44EF8B2F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02A020-0296-4BDD-9555-1743E0EF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718705-E14F-41E0-A169-0F8855B0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FCA-A6C3-4AAD-B725-1C4B536B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C19343-BFE1-4D87-93A5-AD97E0FA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51FEBB-2EAB-45E9-9DA1-2FD391B3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78583C-3BE2-4B67-8C77-F96CDCD6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79FB9C-DBEC-4160-9230-3370B9AA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E0E6DA-9F53-4055-85E2-049E18FF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02A0BA-CC0B-44FD-8B49-321668D0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C53A4A-3707-4F98-91C2-217E79D9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EB141E-8A83-4E3A-BC73-0D815F7B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42817D-6909-4525-A6D2-CBB70682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2C8189-A1AF-405D-B548-4FCE0A9C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D82-E457-42A6-85CC-94F466A6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C7FB4D-B8B4-4915-A45E-1BF3BF57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1EB66A-2741-4C10-BE7B-3852D04B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29E0BD-EAB3-44F8-B067-7AF695DB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B1EE3C-F322-4DAE-BF9D-501B7D34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9FFC61-D904-4430-8CEB-0109AAAF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318096-2D48-4853-BA1D-1870B820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B7F066-B1CF-414A-9DB7-83E306B3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E5B19F-9685-4332-81B2-B3A2B6C9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8A2205-F857-4023-93AC-CDAD764F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D61558-1CB9-4EB8-B416-4F1C5E8A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1B6-65D7-4CB6-BEB8-76FD1667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19A327-0C64-423F-9DFC-84664FC0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5AF6DB-6956-455F-9501-686E0765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E8B141-25F9-4A8B-A00F-2622C595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E68CF7-A65C-4DFC-A7C6-03623936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479968-3BFD-41B0-A52C-FC4C2B96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975E-7B79-4A16-A575-A404FFE0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6FB1-C398-493B-887D-884EEEA46744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nettore 1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ttango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FA38-ACAA-4105-B300-4D7C13F5DA81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F215-D208-4DE5-A457-EB85710E298C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ttango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nettore 1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1B5B-8FAA-4D2B-9C97-08FEF0410D4B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8DB7-535B-4D8A-B1D7-858F32C0A04B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nettore 1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nettore 1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nettore 1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ttango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nettore 1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CF31-4A14-4942-822C-279FAF6D88D5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nettore 1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ttango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nettore 1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nettore 1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nettore 1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7911-7FF6-4B95-A018-AEFBC7B440D7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421488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ICS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SAN DOMENICO SAVIO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ITALY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ERASMUS +</a:t>
            </a:r>
            <a:endParaRPr b="0" lang="en-US" sz="24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56920" y="35002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5395"/>
                </a:solidFill>
                <a:latin typeface="Century Schoolbook"/>
              </a:rPr>
              <a:t>BILINGUAL EDUCATION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5395"/>
                </a:solidFill>
                <a:latin typeface="Century Schoolbook"/>
              </a:rPr>
              <a:t>IN ITAL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5500800" y="868320"/>
            <a:ext cx="3206520" cy="631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785600" y="428760"/>
            <a:ext cx="5600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CasellaDiTesto 5"/>
          <p:cNvSpPr/>
          <p:nvPr/>
        </p:nvSpPr>
        <p:spPr>
          <a:xfrm>
            <a:off x="2286000" y="1214280"/>
            <a:ext cx="59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bout in 1994, the use of CLIL (Content and Language Integrated Learning) in Italian Schools had more development  in the Italian Bilingual Regions (language immersion): Piemonte, Valle d’Aosta, Lombardia, Trentino, Veneto, on the border with France, Switzerland, Austria and Slovenia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4" descr="http://www.webalice.it/renza.proch/ITALIA_1/images/italia_politica.jpg"/>
          <p:cNvPicPr/>
          <p:nvPr/>
        </p:nvPicPr>
        <p:blipFill>
          <a:blip r:embed="rId2"/>
          <a:stretch/>
        </p:blipFill>
        <p:spPr>
          <a:xfrm>
            <a:off x="3643200" y="3000240"/>
            <a:ext cx="3167280" cy="3727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ttangolo 3"/>
          <p:cNvSpPr/>
          <p:nvPr/>
        </p:nvSpPr>
        <p:spPr>
          <a:xfrm>
            <a:off x="2286000" y="1285920"/>
            <a:ext cx="55008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nce 2010, the Italian School Reform introduced in the High Secondary School (14/18 years) the teaching of a subject (History, Geography, Science, …) in foreign language  according to the methodology CLI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eachers’ Training Courses have therefore been started for the acquisition of skills on CLIL methodology and the acquisition of language skills up to the C1 (CEFR),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especially in English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785600" y="428760"/>
            <a:ext cx="5600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http://www.didatticachimica.it/wp-content/uploads/2013/05/CLIL-e-termini-correlati.jpg"/>
          <p:cNvPicPr/>
          <p:nvPr/>
        </p:nvPicPr>
        <p:blipFill>
          <a:blip r:embed="rId2"/>
          <a:stretch/>
        </p:blipFill>
        <p:spPr>
          <a:xfrm>
            <a:off x="3214800" y="4143240"/>
            <a:ext cx="4238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CasellaDiTesto 5"/>
          <p:cNvSpPr/>
          <p:nvPr/>
        </p:nvSpPr>
        <p:spPr>
          <a:xfrm>
            <a:off x="2357280" y="1785960"/>
            <a:ext cx="592956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n Primary (8/11 years) and Lower Secondary School (11/13 years) the teaching in English of a subject (History, Geography, Science, …), according to the methodology CLIL,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is at the beginning stage and it’s esperimenta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s is due to several reas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eachers of the older generation, who have high skills in English, are only English Specialist Teacher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nly recently have been introduced high English language courses in University Programs, which are not only of Foreign Linguistic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re are still few trained teachers for CLI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856880" y="356760"/>
            <a:ext cx="40006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856880" y="499680"/>
            <a:ext cx="40006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 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Our Scho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sp>
        <p:nvSpPr>
          <p:cNvPr id="367" name="CasellaDiTesto 5"/>
          <p:cNvSpPr/>
          <p:nvPr/>
        </p:nvSpPr>
        <p:spPr>
          <a:xfrm>
            <a:off x="2428920" y="1500120"/>
            <a:ext cx="607212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5395"/>
                </a:solidFill>
                <a:latin typeface="Century Schoolbook"/>
              </a:rPr>
              <a:t>Primary School (8/11 years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only Foreign Language is English: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stening, reading and understanding simple phrases, copying correctly, writing short phrases, following a given model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5395"/>
                </a:solidFill>
                <a:latin typeface="Century Schoolbook"/>
              </a:rPr>
              <a:t>Lower Secondary School (11/13 years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First Foreign Language is English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reaching the level of the European Language Portfolio A2 through the integration of various skills: listening, reading, speaking, writing, oral interaction and written interactio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Second Foreign Language is Spanish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Listening and understanding comprehensively the spoken and written language.</a:t>
            </a:r>
            <a:r>
              <a:rPr b="0" lang="it-IT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Expressing appropriately in speaking and writing interaction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No subject uses CLIL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we are planning strategies for the use of CLIL, through European funding or families’ private contribution, to have mother tongue</a:t>
            </a:r>
            <a:r>
              <a:rPr b="0" lang="en-GB" sz="1600" spc="-1" strike="noStrike">
                <a:solidFill>
                  <a:srgbClr val="404040"/>
                </a:solidFill>
                <a:latin typeface="Century Schoolbook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speakers as assistants in several lessons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3:29:51Z</dcterms:created>
  <dc:creator>xxxxx</dc:creator>
  <dc:description/>
  <dc:language>en-US</dc:language>
  <cp:lastModifiedBy>xxxxx</cp:lastModifiedBy>
  <dcterms:modified xsi:type="dcterms:W3CDTF">2015-02-23T19:52:03Z</dcterms:modified>
  <cp:revision>31</cp:revision>
  <dc:subject/>
  <dc:title>clil</dc:title>
</cp:coreProperties>
</file>