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2F7-4561-476F-9070-1178B911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528-3B26-48EC-B5C5-DB044076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A04-C5D2-4860-858E-37246B41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652-CF66-4145-862E-75B434F2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814B-97CB-4125-B6E3-9CF17BE3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6373-6FED-4749-B10D-DC092E75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8674-2DB4-4355-A629-9F2B216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382E-E0CA-4F53-AFFB-9D3C4AE0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7528-DB1D-4DF4-BE6D-F87A8D96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87C2-314A-4059-8414-837C204F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EC62-8B6A-4554-A8E9-D5972CC6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703-5D50-4A09-B77F-0EE2EE24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3725-C497-4B76-9E9F-D2FD6F55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358F-400B-4C92-8E1E-0A53D64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4D3B-D006-492A-BE1F-CEB0A43C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BF06-B426-44C5-BE68-47680611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D65D-FC60-416A-9E42-2D1AC6FA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C2B2-2680-4AAA-BA11-A1FC5B91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966E1-F318-41E3-944B-F632A218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A029-BCB2-4ADC-BF4C-D63D4EFF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C0D6-098F-45B3-929D-F37ABA8E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D2F00-7BD6-4177-B861-4372A9A4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DB7-6022-4C19-A34D-4F9FC8AA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55DF-79DB-4B98-90A8-927989BC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274D-D8B9-42DC-83BC-8A75830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8C26-4B45-496D-9CFF-FAAC335D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CE0F-8AC1-48E9-8CA2-080C66B0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380F-828E-4462-BCA2-03D60C9A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99D5-7AA9-40B5-9002-5A39D77A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0F78-B80A-4059-94AA-56E24A04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AD62A-B832-47E5-92DC-B37B4955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FE79-0CF9-47A9-8138-F923DE28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BAE05-102B-4465-960F-10B34B6B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79B-E3D3-43C0-B328-E8F49AE2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FA32-503A-46CC-A24E-2CA796BF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11D96-F1BE-4757-8364-0B4862BA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8CF2-2314-4876-9826-C9C5A615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CA5C-D991-4398-9A5D-0C4D9C22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3573-902E-4637-A8CD-35575EFA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1240D-1DCE-4283-9FAE-527C4A4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6AF2-465F-41FD-867A-CA775671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2C32-C653-4C79-9580-13DF6570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2539-CCEA-46F5-B688-C260EEEE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69B-A940-4A6D-B451-97376E0B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957-37D7-4A14-B5C0-899E7F37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78B-9C25-46E8-9ACB-A925BB4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5C6-57B4-4A27-BACE-B3FF8FB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F7C-26A6-47BD-9BA1-5644BD78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D8AE-B83D-4EB3-818E-7B52ECB57C24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81B4-5D1A-4B51-A02E-2963C3617E9E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6907-B63E-419E-AF2A-C48D261A8216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79E4-EA02-4D41-8634-9C668638B33C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enna-unwrapped.com/wp-content/uploads/2014/03/world_war_i_1914-1918_austria-hungary_map_www.warchat.org_480x33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90c226"/>
                </a:solidFill>
                <a:latin typeface="Trebuchet MS"/>
              </a:rPr>
              <a:t>Bilingual education in the Czech republic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Bilingual education in Central Boh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57080"/>
            <a:ext cx="497988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1918 – creation of Czechoslovakia (before we were part of Austria-Hungary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, Russian (Sub Carpathian Ruthenia), German (big community); Polish and Hungarian around borders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After WWII. – Czechoslovak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; Polish, Hungarian and German around border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5560920" y="2563920"/>
            <a:ext cx="4572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During communism time – all schools taught Russi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Up to the end of 1992 we were bilingual coun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Czech part – at school children learnt in Czech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lovak part - at school children learnt in Slovak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ere were lots of programmes on TV in both languages – everybody understands each othe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 u="sng">
                <a:solidFill>
                  <a:srgbClr val="404040"/>
                </a:solidFill>
                <a:uFillTx/>
                <a:latin typeface="Trebuchet MS"/>
              </a:rPr>
              <a:t>Nowadays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ittle children don‘t understand Slovak, even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ough the languages are very simila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Central Bohemi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Central Bohem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Region in the centre of the Czech republic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People speak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hildren are taught in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apital city – Prague – lots of tourists, foreigners = some international school, bilingual schools (mainly Czech/English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Minority – Vietnamese, Romany (the law – more than 10% of minority people in the town/village = school should provide education in children‘s mother tongue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First languages is taught from 3rd grade (age 8 years), second language from 7th or 8th grade (age 13 or 14 years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Languages at our schoo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1414440"/>
            <a:ext cx="8596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Mnichovice primary and lower secondary schoo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taught from 1st grade (age 6 year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English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1st and 2nd grade – just speaking (the end of 2nd grade we start with little bit of writing – numbers, colours, animal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from 6th or 7th grad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can be German, Russian, French, Spanish, Italia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rom 6th grade some subjects use CLIL – Geography, Biology, 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ICT,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Music, Ar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Native speakers as assistants in English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404040"/>
                </a:solidFill>
                <a:latin typeface="Trebuchet MS"/>
              </a:rPr>
              <a:t>Cooperation with neighbouring schools – language competitions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://vienna-unwrapped.com/wp-content/uploads/2014/03/world_war_i_1914-1918_austria-hungary_map_www.warchat.org_480x338.jpg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5:45:58Z</dcterms:created>
  <dc:creator>Dominika Švehlová</dc:creator>
  <dc:description/>
  <dc:language>en-US</dc:language>
  <cp:lastModifiedBy>Dominika Švehlová</cp:lastModifiedBy>
  <dcterms:modified xsi:type="dcterms:W3CDTF">2015-02-22T17:11:41Z</dcterms:modified>
  <cp:revision>6</cp:revision>
  <dc:subject/>
  <dc:title>Bilingual education in the Czech republic</dc:title>
</cp:coreProperties>
</file>