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2E993-490B-4EAD-B993-E072D60F6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2E80A-3E6D-4F99-B1DE-3BB25EFC9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CEF57-2AC9-4E0D-B106-F49D8C5C4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ECF61-2117-453B-9D42-EA6CA74AE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B1504-6B21-4CF8-A3E7-207D62B99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E530E-F665-42E9-9FD5-C1142864D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0DF62-20E9-464E-9365-CFB7E3608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39A6A-17D0-4BED-B9BA-CC545FAB0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E6A25-B62C-47BD-9C7F-969FF9DE7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FAE68-6F9B-46DD-BD3B-25A8FCF31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AEB6D-3923-4ACE-88E0-8542F48CA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3ED92-1F77-4CC5-ACB2-D89DAEB2E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B8145-5733-4984-815D-B4F6B5EFE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50D9E-C23F-47EE-92BA-6E3D06C3A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DEF08-1AFF-4171-92EA-DE72B71FD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5A7A9-4727-4991-BB31-A1465275E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C81A5-BB35-4563-84A0-7903966D5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730C28-96DC-437B-BAD3-383351F96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9179EF-688A-4C5A-9033-6FCD3CEC0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B01DCB-E2C1-4094-A596-9509F2A2D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ABA9D1-601B-43DC-9FDF-CD36B8D08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DCDE55-4EE3-497C-B98E-B208C1F72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90743-F189-4D3B-A70D-29D39E5B2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E1682A-CB51-4FC8-8965-CCE23DA9D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3D4B84-B040-4CE5-A04A-206390642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DE6CDD-4CBB-4423-BA90-3012C37AE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BC4043-88E3-4DE9-94A8-B1EF89804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AB44A6-C238-4CF0-9638-B0E6DC158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6C6BB9-CB00-4DDD-8143-A327EBB65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35E87D-1B90-4D47-A123-8C13D64C3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9C590F-F93B-40A0-BCF4-BA1CBFE04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2FD619-D9A2-4625-83C2-46A2EAE20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D6994F-58BB-46DF-9B9C-68B248926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F3B71-8133-4373-BB79-4FFA0A04A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75F43C-9BED-479C-80DF-3F517F7B4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8ABA9A-0C77-4CF5-8D71-F250CC64E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99888A-1196-4ABC-A3F9-93B16DB1C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F3A5AF-ECE3-40CB-ACE7-711E1BC8B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AA098F-816D-4C18-8A45-47290C7CF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A41510-B712-44DA-BFE3-8CA0871DA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3B916D-F01A-4BDD-B210-D36F0A28E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AF7458-F2F9-4DC1-BE02-2229E95D8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B2CF45-BDE1-4EAA-815E-ACDB97675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BE06D-87B2-4A56-BFCC-5577EF511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0621A-23E1-4E6E-940F-F76173265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A60D9-E8A8-4200-A285-D68B53458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371BA-13B8-4302-853D-04F3F4999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D473B-460B-438E-AE40-684D919FD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1" name="Straight Connector 19"/>
            <p:cNvSpPr/>
            <p:nvPr/>
          </p:nvSpPr>
          <p:spPr>
            <a:xfrm>
              <a:off x="937116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" name="Straight Connector 20"/>
            <p:cNvSpPr/>
            <p:nvPr/>
          </p:nvSpPr>
          <p:spPr>
            <a:xfrm flipH="1">
              <a:off x="7425000" y="3681360"/>
              <a:ext cx="4764240" cy="317664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" name="Rectangle 23"/>
            <p:cNvSpPr/>
            <p:nvPr/>
          </p:nvSpPr>
          <p:spPr>
            <a:xfrm>
              <a:off x="9182160" y="-7920"/>
              <a:ext cx="300672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" name="Rectangle 25"/>
            <p:cNvSpPr/>
            <p:nvPr/>
          </p:nvSpPr>
          <p:spPr>
            <a:xfrm>
              <a:off x="9603000" y="-7920"/>
              <a:ext cx="258912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" name="Isosceles Triangle 23"/>
            <p:cNvSpPr/>
            <p:nvPr/>
          </p:nvSpPr>
          <p:spPr>
            <a:xfrm>
              <a:off x="8933040" y="3048120"/>
              <a:ext cx="3259080" cy="3809880"/>
            </a:xfrm>
            <a:prstGeom prst="triangle">
              <a:avLst>
                <a:gd name="adj" fmla="val 100000"/>
              </a:avLst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" name="Rectangle 28"/>
            <p:cNvSpPr/>
            <p:nvPr/>
          </p:nvSpPr>
          <p:spPr>
            <a:xfrm>
              <a:off x="10898280" y="-7920"/>
              <a:ext cx="129060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" name="Rectangle 29"/>
            <p:cNvSpPr/>
            <p:nvPr/>
          </p:nvSpPr>
          <p:spPr>
            <a:xfrm>
              <a:off x="10939680" y="-7920"/>
              <a:ext cx="124920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" name="Isosceles Triangle 27"/>
            <p:cNvSpPr/>
            <p:nvPr/>
          </p:nvSpPr>
          <p:spPr>
            <a:xfrm>
              <a:off x="10371240" y="3589200"/>
              <a:ext cx="1817640" cy="326880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" name="Isosceles Triangle 28"/>
            <p:cNvSpPr/>
            <p:nvPr/>
          </p:nvSpPr>
          <p:spPr>
            <a:xfrm>
              <a:off x="0" y="4013280"/>
              <a:ext cx="449280" cy="2844720"/>
            </a:xfrm>
            <a:prstGeom prst="triangle">
              <a:avLst>
                <a:gd name="adj" fmla="val 0"/>
              </a:avLst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42841-0BB2-4FF2-9B42-450F0EEA8654}" type="slidenum">
              <a:rPr b="0" lang="cs-CZ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360" y="-7920"/>
            <a:ext cx="12192480" cy="6865920"/>
            <a:chOff x="-360" y="-7920"/>
            <a:chExt cx="12192480" cy="6865920"/>
          </a:xfrm>
        </p:grpSpPr>
        <p:sp>
          <p:nvSpPr>
            <p:cNvPr id="53" name="Straight Connector 31"/>
            <p:cNvSpPr/>
            <p:nvPr/>
          </p:nvSpPr>
          <p:spPr>
            <a:xfrm>
              <a:off x="937116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4" name="Straight Connector 20"/>
            <p:cNvSpPr/>
            <p:nvPr/>
          </p:nvSpPr>
          <p:spPr>
            <a:xfrm flipH="1">
              <a:off x="7425000" y="3681360"/>
              <a:ext cx="4764240" cy="317664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5" name="Rectangle 23"/>
            <p:cNvSpPr/>
            <p:nvPr/>
          </p:nvSpPr>
          <p:spPr>
            <a:xfrm>
              <a:off x="9182160" y="-7920"/>
              <a:ext cx="300672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6" name="Rectangle 25"/>
            <p:cNvSpPr/>
            <p:nvPr/>
          </p:nvSpPr>
          <p:spPr>
            <a:xfrm>
              <a:off x="9603000" y="-7920"/>
              <a:ext cx="258912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7" name="Isosceles Triangle 26"/>
            <p:cNvSpPr/>
            <p:nvPr/>
          </p:nvSpPr>
          <p:spPr>
            <a:xfrm>
              <a:off x="8933040" y="3048120"/>
              <a:ext cx="3259080" cy="3809880"/>
            </a:xfrm>
            <a:prstGeom prst="triangle">
              <a:avLst>
                <a:gd name="adj" fmla="val 100000"/>
              </a:avLst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8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9" name="Rectangle 28"/>
            <p:cNvSpPr/>
            <p:nvPr/>
          </p:nvSpPr>
          <p:spPr>
            <a:xfrm>
              <a:off x="10898280" y="-7920"/>
              <a:ext cx="129060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0" name="Rectangle 29"/>
            <p:cNvSpPr/>
            <p:nvPr/>
          </p:nvSpPr>
          <p:spPr>
            <a:xfrm>
              <a:off x="10939680" y="-7920"/>
              <a:ext cx="124920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1" name="Isosceles Triangle 30"/>
            <p:cNvSpPr/>
            <p:nvPr/>
          </p:nvSpPr>
          <p:spPr>
            <a:xfrm>
              <a:off x="10371240" y="3589200"/>
              <a:ext cx="1817640" cy="326880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2" name="Isosceles Triangle 18"/>
            <p:cNvSpPr/>
            <p:nvPr/>
          </p:nvSpPr>
          <p:spPr>
            <a:xfrm rot="10800000">
              <a:off x="0" y="-360"/>
              <a:ext cx="842760" cy="566604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114F9-97FC-446B-979C-1766A0D4A8AE}" type="slidenum">
              <a:rPr b="0" lang="cs-CZ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6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105" name="Straight Connector 19"/>
            <p:cNvSpPr/>
            <p:nvPr/>
          </p:nvSpPr>
          <p:spPr>
            <a:xfrm>
              <a:off x="937116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6" name="Straight Connector 20"/>
            <p:cNvSpPr/>
            <p:nvPr/>
          </p:nvSpPr>
          <p:spPr>
            <a:xfrm flipH="1">
              <a:off x="7425000" y="3681360"/>
              <a:ext cx="4764240" cy="317664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7" name="Rectangle 23"/>
            <p:cNvSpPr/>
            <p:nvPr/>
          </p:nvSpPr>
          <p:spPr>
            <a:xfrm>
              <a:off x="9182160" y="-7920"/>
              <a:ext cx="300672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8" name="Rectangle 25"/>
            <p:cNvSpPr/>
            <p:nvPr/>
          </p:nvSpPr>
          <p:spPr>
            <a:xfrm>
              <a:off x="9603000" y="-7920"/>
              <a:ext cx="258912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9" name="Isosceles Triangle 23"/>
            <p:cNvSpPr/>
            <p:nvPr/>
          </p:nvSpPr>
          <p:spPr>
            <a:xfrm>
              <a:off x="8933040" y="3048120"/>
              <a:ext cx="3259080" cy="3809880"/>
            </a:xfrm>
            <a:prstGeom prst="triangle">
              <a:avLst>
                <a:gd name="adj" fmla="val 100000"/>
              </a:avLst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0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1" name="Rectangle 28"/>
            <p:cNvSpPr/>
            <p:nvPr/>
          </p:nvSpPr>
          <p:spPr>
            <a:xfrm>
              <a:off x="10898280" y="-7920"/>
              <a:ext cx="129060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2" name="Rectangle 29"/>
            <p:cNvSpPr/>
            <p:nvPr/>
          </p:nvSpPr>
          <p:spPr>
            <a:xfrm>
              <a:off x="10939680" y="-7920"/>
              <a:ext cx="124920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3" name="Isosceles Triangle 27"/>
            <p:cNvSpPr/>
            <p:nvPr/>
          </p:nvSpPr>
          <p:spPr>
            <a:xfrm>
              <a:off x="10371240" y="3589200"/>
              <a:ext cx="1817640" cy="326880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4" name="Isosceles Triangle 28"/>
            <p:cNvSpPr/>
            <p:nvPr/>
          </p:nvSpPr>
          <p:spPr>
            <a:xfrm>
              <a:off x="0" y="4013280"/>
              <a:ext cx="449280" cy="2844720"/>
            </a:xfrm>
            <a:prstGeom prst="triangle">
              <a:avLst>
                <a:gd name="adj" fmla="val 0"/>
              </a:avLst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5" name="TextBox 19"/>
          <p:cNvSpPr/>
          <p:nvPr/>
        </p:nvSpPr>
        <p:spPr>
          <a:xfrm>
            <a:off x="541440" y="79056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TextBox 21"/>
          <p:cNvSpPr/>
          <p:nvPr/>
        </p:nvSpPr>
        <p:spPr>
          <a:xfrm>
            <a:off x="8893080" y="2886120"/>
            <a:ext cx="6098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8B4B2-5BA4-4FEE-8A6E-6FE89657F05F}" type="slidenum">
              <a:rPr b="0" lang="cs-CZ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6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159" name="Straight Connector 19"/>
            <p:cNvSpPr/>
            <p:nvPr/>
          </p:nvSpPr>
          <p:spPr>
            <a:xfrm>
              <a:off x="937116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0" name="Straight Connector 20"/>
            <p:cNvSpPr/>
            <p:nvPr/>
          </p:nvSpPr>
          <p:spPr>
            <a:xfrm flipH="1">
              <a:off x="7425000" y="3681360"/>
              <a:ext cx="4764240" cy="317664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1" name="Rectangle 23"/>
            <p:cNvSpPr/>
            <p:nvPr/>
          </p:nvSpPr>
          <p:spPr>
            <a:xfrm>
              <a:off x="9182160" y="-7920"/>
              <a:ext cx="300672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2" name="Rectangle 25"/>
            <p:cNvSpPr/>
            <p:nvPr/>
          </p:nvSpPr>
          <p:spPr>
            <a:xfrm>
              <a:off x="9603000" y="-7920"/>
              <a:ext cx="258912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3" name="Isosceles Triangle 23"/>
            <p:cNvSpPr/>
            <p:nvPr/>
          </p:nvSpPr>
          <p:spPr>
            <a:xfrm>
              <a:off x="8933040" y="3048120"/>
              <a:ext cx="3259080" cy="3809880"/>
            </a:xfrm>
            <a:prstGeom prst="triangle">
              <a:avLst>
                <a:gd name="adj" fmla="val 100000"/>
              </a:avLst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4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5" name="Rectangle 28"/>
            <p:cNvSpPr/>
            <p:nvPr/>
          </p:nvSpPr>
          <p:spPr>
            <a:xfrm>
              <a:off x="10898280" y="-7920"/>
              <a:ext cx="129060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6" name="Rectangle 29"/>
            <p:cNvSpPr/>
            <p:nvPr/>
          </p:nvSpPr>
          <p:spPr>
            <a:xfrm>
              <a:off x="10939680" y="-7920"/>
              <a:ext cx="124920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7" name="Isosceles Triangle 27"/>
            <p:cNvSpPr/>
            <p:nvPr/>
          </p:nvSpPr>
          <p:spPr>
            <a:xfrm>
              <a:off x="10371240" y="3589200"/>
              <a:ext cx="1817640" cy="326880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8" name="Isosceles Triangle 28"/>
            <p:cNvSpPr/>
            <p:nvPr/>
          </p:nvSpPr>
          <p:spPr>
            <a:xfrm>
              <a:off x="0" y="4013280"/>
              <a:ext cx="449280" cy="2844720"/>
            </a:xfrm>
            <a:prstGeom prst="triangle">
              <a:avLst>
                <a:gd name="adj" fmla="val 0"/>
              </a:avLst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TextBox 23"/>
          <p:cNvSpPr/>
          <p:nvPr/>
        </p:nvSpPr>
        <p:spPr>
          <a:xfrm>
            <a:off x="541440" y="79056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TextBox 24"/>
          <p:cNvSpPr/>
          <p:nvPr/>
        </p:nvSpPr>
        <p:spPr>
          <a:xfrm>
            <a:off x="8893080" y="2886120"/>
            <a:ext cx="6098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541E5-D17A-444B-A3FA-1A3CBC272050}" type="slidenum">
              <a:rPr b="0" lang="cs-CZ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vienna-unwrapped.com/wp-content/uploads/2014/03/world_war_i_1914-1918_austria-hungary_map_www.warchat.org_480x338.jpg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506240" y="2404800"/>
            <a:ext cx="7767720" cy="164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5400" spc="-1" strike="noStrike">
                <a:solidFill>
                  <a:srgbClr val="90c226"/>
                </a:solidFill>
                <a:latin typeface="Trebuchet MS"/>
              </a:rPr>
              <a:t>Bilingual education in the Czech republic</a:t>
            </a:r>
            <a:endParaRPr b="0" lang="en-US" sz="5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506240" y="4051080"/>
            <a:ext cx="7767720" cy="109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7f7f7f"/>
                </a:solidFill>
                <a:latin typeface="Trebuchet MS"/>
              </a:rPr>
              <a:t>Bilingual education in Central Bohemia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77520" y="609480"/>
            <a:ext cx="8596440" cy="7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600" spc="-1" strike="noStrike">
                <a:solidFill>
                  <a:srgbClr val="90c226"/>
                </a:solidFill>
                <a:latin typeface="Trebuchet MS"/>
              </a:rPr>
              <a:t>Bilingual education – history overview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677520" y="1657080"/>
            <a:ext cx="4979880" cy="438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 u="sng">
                <a:solidFill>
                  <a:srgbClr val="404040"/>
                </a:solidFill>
                <a:uFillTx/>
                <a:latin typeface="Trebuchet MS"/>
              </a:rPr>
              <a:t>1918 – creation of Czechoslovakia (before we were part of Austria-Hungary)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404040"/>
                </a:solidFill>
                <a:latin typeface="Trebuchet MS"/>
              </a:rPr>
              <a:t>Languages – Czech, Slovak, Russian (Sub Carpathian Ruthenia), German (big community); Polish and Hungarian around borders 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 u="sng">
                <a:solidFill>
                  <a:srgbClr val="404040"/>
                </a:solidFill>
                <a:uFillTx/>
                <a:latin typeface="Trebuchet MS"/>
              </a:rPr>
              <a:t>After WWII. – Czechoslovakia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404040"/>
                </a:solidFill>
                <a:latin typeface="Trebuchet MS"/>
              </a:rPr>
              <a:t>Languages – Czech, Slovak; Polish, Hungarian and German around borders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7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16" name="Obrázek 3" descr=""/>
          <p:cNvPicPr/>
          <p:nvPr/>
        </p:nvPicPr>
        <p:blipFill>
          <a:blip r:embed="rId1"/>
          <a:stretch/>
        </p:blipFill>
        <p:spPr>
          <a:xfrm>
            <a:off x="5560920" y="2563920"/>
            <a:ext cx="4572000" cy="32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6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600" spc="-1" strike="noStrike">
                <a:solidFill>
                  <a:srgbClr val="90c226"/>
                </a:solidFill>
                <a:latin typeface="Trebuchet MS"/>
              </a:rPr>
              <a:t>Bilingual education – history overview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677520" y="1657080"/>
            <a:ext cx="8596440" cy="438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 u="sng">
                <a:solidFill>
                  <a:srgbClr val="404040"/>
                </a:solidFill>
                <a:uFillTx/>
                <a:latin typeface="Trebuchet MS"/>
              </a:rPr>
              <a:t>During communism time – all schools taught Russian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 u="sng">
                <a:solidFill>
                  <a:srgbClr val="404040"/>
                </a:solidFill>
                <a:uFillTx/>
                <a:latin typeface="Trebuchet MS"/>
              </a:rPr>
              <a:t>Up to the end of 1992 we were bilingual country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404040"/>
                </a:solidFill>
                <a:latin typeface="Trebuchet MS"/>
              </a:rPr>
              <a:t>Czech part – at school children learnt in Czech – Slovak was taught during grammar lessons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404040"/>
                </a:solidFill>
                <a:latin typeface="Trebuchet MS"/>
              </a:rPr>
              <a:t>Slovak part - at school children learnt in Slovak – Slovak was taught during grammar lessons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404040"/>
                </a:solidFill>
                <a:latin typeface="Trebuchet MS"/>
              </a:rPr>
              <a:t>There were lots of programmes on TV in both languages – everybody understands each other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100" spc="-1" strike="noStrike" u="sng">
                <a:solidFill>
                  <a:srgbClr val="404040"/>
                </a:solidFill>
                <a:uFillTx/>
                <a:latin typeface="Trebuchet MS"/>
              </a:rPr>
              <a:t>Nowadays</a:t>
            </a:r>
            <a:endParaRPr b="0" lang="en-US" sz="21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404040"/>
                </a:solidFill>
                <a:latin typeface="Trebuchet MS"/>
              </a:rPr>
              <a:t>Little children don‘t understand Slovak, even</a:t>
            </a:r>
            <a:r>
              <a:rPr b="0" lang="cs-CZ" sz="19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en-GB" sz="1900" spc="-1" strike="noStrike">
                <a:solidFill>
                  <a:srgbClr val="404040"/>
                </a:solidFill>
                <a:latin typeface="Trebuchet MS"/>
              </a:rPr>
              <a:t>though the languages are very similar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77520" y="609480"/>
            <a:ext cx="8596440" cy="69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600" spc="-1" strike="noStrike">
                <a:solidFill>
                  <a:srgbClr val="90c226"/>
                </a:solidFill>
                <a:latin typeface="Trebuchet MS"/>
              </a:rPr>
              <a:t>Bilingual education – Central Bohemia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677520" y="1657080"/>
            <a:ext cx="8596440" cy="438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 u="sng">
                <a:solidFill>
                  <a:srgbClr val="404040"/>
                </a:solidFill>
                <a:uFillTx/>
                <a:latin typeface="Trebuchet MS"/>
              </a:rPr>
              <a:t>Central Bohemia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700" spc="-1" strike="noStrike">
                <a:solidFill>
                  <a:srgbClr val="404040"/>
                </a:solidFill>
                <a:latin typeface="Trebuchet MS"/>
              </a:rPr>
              <a:t>Region in the centre of the Czech republic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700" spc="-1" strike="noStrike">
                <a:solidFill>
                  <a:srgbClr val="404040"/>
                </a:solidFill>
                <a:latin typeface="Trebuchet MS"/>
              </a:rPr>
              <a:t>People speak Czech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700" spc="-1" strike="noStrike">
                <a:solidFill>
                  <a:srgbClr val="404040"/>
                </a:solidFill>
                <a:latin typeface="Trebuchet MS"/>
              </a:rPr>
              <a:t>Children are taught in Czech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700" spc="-1" strike="noStrike">
                <a:solidFill>
                  <a:srgbClr val="404040"/>
                </a:solidFill>
                <a:latin typeface="Trebuchet MS"/>
              </a:rPr>
              <a:t>Capital city – Prague – lots of tourists, foreigners = some international school, bilingual schools (mainly Czech/English)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700" spc="-1" strike="noStrike">
                <a:solidFill>
                  <a:srgbClr val="404040"/>
                </a:solidFill>
                <a:latin typeface="Trebuchet MS"/>
              </a:rPr>
              <a:t>Minority – Vietnamese, Romany (the law – more than 10% of minority people in the town/village = school should provide education in children‘s mother tongue)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700" spc="-1" strike="noStrike">
                <a:solidFill>
                  <a:srgbClr val="404040"/>
                </a:solidFill>
                <a:latin typeface="Trebuchet MS"/>
              </a:rPr>
              <a:t>First languages is taught from 3rd grade (age 8 years), second language from 7th or 8th grade (age 13 or 14 years)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77520" y="609480"/>
            <a:ext cx="8596440" cy="69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600" spc="-1" strike="noStrike">
                <a:solidFill>
                  <a:srgbClr val="90c226"/>
                </a:solidFill>
                <a:latin typeface="Trebuchet MS"/>
              </a:rPr>
              <a:t>Languages at our school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677520" y="1414440"/>
            <a:ext cx="859644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 u="sng">
                <a:solidFill>
                  <a:srgbClr val="404040"/>
                </a:solidFill>
                <a:uFillTx/>
                <a:latin typeface="Trebuchet MS"/>
              </a:rPr>
              <a:t>Mnichovice primary and lower secondary schoo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404040"/>
                </a:solidFill>
                <a:latin typeface="Trebuchet MS"/>
              </a:rPr>
              <a:t>first language is taught from 1st grade (age 6 years)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404040"/>
                </a:solidFill>
                <a:latin typeface="Trebuchet MS"/>
              </a:rPr>
              <a:t>First language is English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404040"/>
                </a:solidFill>
                <a:latin typeface="Trebuchet MS"/>
              </a:rPr>
              <a:t>1st and 2nd grade – just speaking (the end of 2nd grade we start with little bit of writing – numbers, colours, animals)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404040"/>
                </a:solidFill>
                <a:latin typeface="Trebuchet MS"/>
              </a:rPr>
              <a:t>Second language from 6th or 7th grade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404040"/>
                </a:solidFill>
                <a:latin typeface="Trebuchet MS"/>
              </a:rPr>
              <a:t>Second language can be German, Russian, French, Spanish, Italian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404040"/>
                </a:solidFill>
                <a:latin typeface="Trebuchet MS"/>
              </a:rPr>
              <a:t>From 6th grade some subjects use CLIL – Geography, Biology, </a:t>
            </a:r>
            <a:r>
              <a:rPr b="0" lang="cs-CZ" sz="1900" spc="-1" strike="noStrike">
                <a:solidFill>
                  <a:srgbClr val="404040"/>
                </a:solidFill>
                <a:latin typeface="Trebuchet MS"/>
              </a:rPr>
              <a:t>ICT, </a:t>
            </a:r>
            <a:r>
              <a:rPr b="0" lang="en-GB" sz="1900" spc="-1" strike="noStrike">
                <a:solidFill>
                  <a:srgbClr val="404040"/>
                </a:solidFill>
                <a:latin typeface="Trebuchet MS"/>
              </a:rPr>
              <a:t>Music, Art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404040"/>
                </a:solidFill>
                <a:latin typeface="Trebuchet MS"/>
              </a:rPr>
              <a:t>Native speakers as assistants in English lessons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100" spc="-1" strike="noStrike">
                <a:solidFill>
                  <a:srgbClr val="404040"/>
                </a:solidFill>
                <a:latin typeface="Trebuchet MS"/>
              </a:rPr>
              <a:t>Cooperation with neighbouring schools – language competitions </a:t>
            </a:r>
            <a:endParaRPr b="0" lang="en-US" sz="21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cs-CZ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 u="sng">
                <a:solidFill>
                  <a:srgbClr val="99ca3c"/>
                </a:solidFill>
                <a:uFillTx/>
                <a:latin typeface="Trebuchet MS"/>
                <a:hlinkClick r:id="rId1"/>
              </a:rPr>
              <a:t>http://vienna-unwrapped.com/wp-content/uploads/2014/03/world_war_i_1914-1918_austria-hungary_map_www.warchat.org_480x338.jpg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22T15:45:58Z</dcterms:created>
  <dc:creator>Dominika Švehlová</dc:creator>
  <dc:description/>
  <dc:language>en-US</dc:language>
  <cp:lastModifiedBy>Dominika Švehlová</cp:lastModifiedBy>
  <dcterms:modified xsi:type="dcterms:W3CDTF">2015-02-22T17:11:41Z</dcterms:modified>
  <cp:revision>6</cp:revision>
  <dc:subject/>
  <dc:title>Bilingual education in the Czech republic</dc:title>
</cp:coreProperties>
</file>