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C0D2-86CF-4BB6-B82D-5210BAC7E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21ED-77C4-47E8-9206-7D08B7740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502E-F992-4BC2-A18B-86033A664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2327-EF39-44C8-97C3-041A795C0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04082-1804-4671-8264-20F825509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FC065-BCAE-4D4E-87B2-4A2355009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7A4B3-E9C6-4A93-A3DC-570D5A64D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CC06D-A325-481B-9D82-1C7D1B662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6801D-E473-4370-B816-EE4F0A2B9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80BD2-1C96-4E9E-BDC7-EEF565A12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223D2-140C-423E-92C7-906BA6584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223D-E734-4F4D-AD0C-67E6C8D74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62F65-74F6-45DC-8381-6A158A0FB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679D7-2D6E-4108-8C40-04D096442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52FEC-7B9F-4DDB-90B9-5CD2DDA80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31217-8D62-43A8-A495-DAF8C1DBC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8111C-9D4A-42E1-B537-3BADACC5B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3B87-364E-4E83-A295-63B2B5901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E048-729C-49C8-BD2D-62A360769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CE1F-4085-40CA-8C12-E45930E3B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2DA3-94C2-4E91-8105-4A8A22B55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336E-AC1B-4ECE-B640-BF4EBD935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BE97-16C2-4252-9164-34C35F70E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E2B4-9CEE-4334-B964-FBAE5B9D2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810DF-DC78-456D-B8EE-5A53C347E63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7EB59-2411-49A0-A9CD-DDE6534B095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2276280"/>
            <a:ext cx="831708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5400" spc="-1" strike="noStrike">
                <a:solidFill>
                  <a:srgbClr val="9933ff"/>
                </a:solidFill>
                <a:latin typeface="Arial"/>
              </a:rPr>
              <a:t> </a:t>
            </a:r>
            <a:r>
              <a:rPr b="1" lang="tr-TR" sz="5400" spc="-1" strike="noStrike">
                <a:solidFill>
                  <a:srgbClr val="9933ff"/>
                </a:solidFill>
                <a:latin typeface="Arial"/>
              </a:rPr>
              <a:t>Bilingual education</a:t>
            </a:r>
            <a:br>
              <a:rPr sz="5400"/>
            </a:br>
            <a:r>
              <a:rPr b="1" lang="tr-TR" sz="5400" spc="-1" strike="noStrike">
                <a:solidFill>
                  <a:srgbClr val="9933ff"/>
                </a:solidFill>
                <a:latin typeface="Arial"/>
              </a:rPr>
              <a:t> in TURKE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95280" y="3860640"/>
            <a:ext cx="273672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800" spc="-1" strike="noStrike">
                <a:solidFill>
                  <a:srgbClr val="000000"/>
                </a:solidFill>
                <a:latin typeface="Arial"/>
              </a:rPr>
              <a:t>In Turkey,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eople speak 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Turk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ildren are taught in 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Turk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Ankara, Istanbul, Izmir etc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– lots of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oreigners = some international school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, bilingual schools (mainly 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Turkish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/Englis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rst language is taught from 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2nd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grade (age 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years)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 in public sch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26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In private schools, at the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ge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 of 3 pupils start to be taught the first language</a:t>
            </a:r>
            <a:r>
              <a:rPr b="0" lang="tr-TR" sz="2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In most of the private schools; from the age of 2, English is taught in “sandwich lessons”</a:t>
            </a:r>
            <a:r>
              <a:rPr b="0" lang="tr-TR" sz="3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16000" y="2491920"/>
            <a:ext cx="6912000" cy="34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Çift Dilli (Bilingual) Eğitim Programı"/>
          <p:cNvPicPr/>
          <p:nvPr/>
        </p:nvPicPr>
        <p:blipFill>
          <a:blip r:embed="rId1"/>
          <a:stretch/>
        </p:blipFill>
        <p:spPr>
          <a:xfrm>
            <a:off x="1116000" y="2492280"/>
            <a:ext cx="6912000" cy="34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800" spc="-1" strike="noStrike">
                <a:solidFill>
                  <a:srgbClr val="000000"/>
                </a:solidFill>
                <a:latin typeface="Arial"/>
              </a:rPr>
              <a:t>Sandwich lesson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The lesson in which both English and class teacher teach at the same time to make pupils be familiar with the foreign langu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0000"/>
                </a:solidFill>
                <a:latin typeface="Arial"/>
              </a:rPr>
              <a:t>Bilingualism in Anatolia before Tur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The constitution of three continents: ANATOLIA- the cradle of many civiliz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In ancient Anatolia, bilingual scripts  came out as a result of language contac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500360" y="1628640"/>
            <a:ext cx="4181400" cy="45309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4500720" y="1557360"/>
            <a:ext cx="424800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800" spc="-1" strike="noStrike">
                <a:solidFill>
                  <a:srgbClr val="000000"/>
                </a:solidFill>
                <a:latin typeface="Arial"/>
              </a:rPr>
              <a:t>Bilingualism in Anatolia after Turk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Before coming to Anatolia, the </a:t>
            </a:r>
            <a:r>
              <a:rPr b="0" lang="tr-TR" sz="2800" spc="-1" strike="noStrike" u="sng">
                <a:solidFill>
                  <a:srgbClr val="000000"/>
                </a:solidFill>
                <a:uFillTx/>
                <a:latin typeface="Arial"/>
              </a:rPr>
              <a:t>elitist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tr-TR" sz="2800" spc="-1" strike="noStrike" u="sng">
                <a:solidFill>
                  <a:srgbClr val="000000"/>
                </a:solidFill>
                <a:uFillTx/>
                <a:latin typeface="Arial"/>
              </a:rPr>
              <a:t>folk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 types of bilingualism were  Turkish, Gothic and Latin languag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402920" y="3933360"/>
            <a:ext cx="6913800" cy="21891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1071 sonrası anadolu ile ilgili görsel sonucu"/>
          <p:cNvPicPr/>
          <p:nvPr/>
        </p:nvPicPr>
        <p:blipFill>
          <a:blip r:embed="rId2"/>
          <a:stretch/>
        </p:blipFill>
        <p:spPr>
          <a:xfrm>
            <a:off x="1403280" y="3716280"/>
            <a:ext cx="691200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800" spc="-1" strike="noStrike">
                <a:solidFill>
                  <a:srgbClr val="000000"/>
                </a:solidFill>
                <a:latin typeface="Arial"/>
              </a:rPr>
              <a:t>Converting to Islam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420640"/>
            <a:ext cx="8229600" cy="37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After Islam, intellectuals created a diglossic society by creating a high variety called </a:t>
            </a:r>
            <a:r>
              <a:rPr b="0" i="1" lang="tr-TR" sz="2800" spc="-1" strike="noStrike">
                <a:solidFill>
                  <a:srgbClr val="000000"/>
                </a:solidFill>
                <a:latin typeface="Arial"/>
              </a:rPr>
              <a:t>Osmanlica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, a mixed language  of Turkish, Arabic and Persia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800" spc="-1" strike="noStrike">
                <a:solidFill>
                  <a:srgbClr val="000000"/>
                </a:solidFill>
                <a:latin typeface="Arial"/>
              </a:rPr>
              <a:t>Ottoman Empire era (1299-1923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During the time of the Ottoman Empire, there had been many speech communities speaking different languages (</a:t>
            </a:r>
            <a:r>
              <a:rPr b="0" lang="tr-TR" sz="2800" spc="-1" strike="noStrike" u="sng">
                <a:solidFill>
                  <a:srgbClr val="000000"/>
                </a:solidFill>
                <a:uFillTx/>
                <a:latin typeface="Arial"/>
              </a:rPr>
              <a:t>There were 22 non-islamic groups 47 ethnic groups (including  islamic and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2800" spc="-1" strike="noStrike" u="sng">
                <a:solidFill>
                  <a:srgbClr val="000000"/>
                </a:solidFill>
                <a:uFillTx/>
                <a:latin typeface="Arial"/>
              </a:rPr>
              <a:t> non-islamic groups)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642920" y="1773000"/>
            <a:ext cx="403884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411800" y="1773360"/>
            <a:ext cx="4732200" cy="31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800" spc="-1" strike="noStrike">
                <a:solidFill>
                  <a:srgbClr val="000000"/>
                </a:solidFill>
                <a:latin typeface="Arial"/>
              </a:rPr>
              <a:t>Republic era ( 1923- … 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482436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The Turkish Language Association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was founded in 1932 with an important aim to purify the Turkish language of Arabic and Persian words and to standardize the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Turkish was accepted as the only medium of instruction in public schools. However, foreign language courses were also allowed to be taught at secondary and high schools and univers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724360" y="1628280"/>
            <a:ext cx="295776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796000" y="1628640"/>
            <a:ext cx="287964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800" spc="-1" strike="noStrike">
                <a:solidFill>
                  <a:srgbClr val="000000"/>
                </a:solidFill>
                <a:latin typeface="Arial"/>
              </a:rPr>
              <a:t>Folk bilingualism in Turkey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The distinction between “</a:t>
            </a:r>
            <a:r>
              <a:rPr b="0" lang="tr-TR" sz="2800" spc="-1" strike="noStrike" u="sng">
                <a:solidFill>
                  <a:srgbClr val="000000"/>
                </a:solidFill>
                <a:uFillTx/>
                <a:latin typeface="Arial"/>
              </a:rPr>
              <a:t>national language” 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and “</a:t>
            </a:r>
            <a:r>
              <a:rPr b="0" lang="tr-TR" sz="2800" spc="-1" strike="noStrike" u="sng">
                <a:solidFill>
                  <a:srgbClr val="000000"/>
                </a:solidFill>
                <a:uFillTx/>
                <a:latin typeface="Arial"/>
              </a:rPr>
              <a:t>native language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There are many languages spoken in Turkey besides Official Turkish Languag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This is because of multi- ethnicity, multi-culturalism, soci-economic diversity, urban-rural distinction, dominant- recessive languages, politics and immig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The most issued one of those languages is </a:t>
            </a:r>
            <a:r>
              <a:rPr b="1" lang="tr-TR" sz="2800" spc="-1" strike="noStrike" u="sng">
                <a:solidFill>
                  <a:srgbClr val="000000"/>
                </a:solidFill>
                <a:uFillTx/>
                <a:latin typeface="Arial"/>
              </a:rPr>
              <a:t>Kurdish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400" spc="-1" strike="noStrike">
                <a:solidFill>
                  <a:srgbClr val="000000"/>
                </a:solidFill>
                <a:latin typeface="Arial"/>
              </a:rPr>
              <a:t>Kurdish – the mother tongue of our Southeas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in South-eastern part of Turkey 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Kurdish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 language is the mother tongue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at the very beginning of Primary Education, the Kurdish pupils have to make a lot more efforts than the students whose mother Tongue is already Turkish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186920" y="3933360"/>
            <a:ext cx="6480360" cy="21891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1116000" y="3860640"/>
            <a:ext cx="6912000" cy="26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800" spc="-1" strike="noStrike">
                <a:solidFill>
                  <a:srgbClr val="000000"/>
                </a:solidFill>
                <a:latin typeface="Arial"/>
              </a:rPr>
              <a:t>English as the first languag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2349360"/>
            <a:ext cx="8229600" cy="37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 u="sng">
                <a:solidFill>
                  <a:srgbClr val="000000"/>
                </a:solidFill>
                <a:uFillTx/>
                <a:latin typeface="Arial"/>
              </a:rPr>
              <a:t>English language 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is the language of privilege or prestige during education life or work lif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In a way English is institutionalized in each phase of education starting from 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Kindergart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3T21:34:40Z</dcterms:created>
  <dc:creator>ayaz</dc:creator>
  <dc:description/>
  <dc:language>en-US</dc:language>
  <cp:lastModifiedBy>ayaz</cp:lastModifiedBy>
  <dcterms:modified xsi:type="dcterms:W3CDTF">2015-02-23T22:55:28Z</dcterms:modified>
  <cp:revision>4</cp:revision>
  <dc:subject/>
  <dc:title>Bilingualism in TURKEY</dc:title>
</cp:coreProperties>
</file>