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35A5-BB0B-4254-99F8-7A5695FEE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3513-AF03-421C-9F8B-E3EAFD4F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AF36-533E-43F8-8F0F-892D4E780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EB76-1651-49B6-A7E0-D6CB75213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85FA-B91D-4E07-81A9-8DE2FBA22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CB0F-A30A-4DF3-89E5-D079D575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7AEEB-02EB-4299-AC93-17B97A2D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1E11-E9BD-4DF9-A4BF-7404CAA3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C1A3-6E89-4B09-B120-212280EF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1EA6-263C-49E8-953A-F43C2C5B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921AD-428E-40DF-8FCA-ED311A9F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1473-373D-401B-AE84-AC22222F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C0D88-814E-4E11-9EC8-2A529614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501D-E576-4CC4-B261-62249D06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BDBE-C94F-49EB-BEA6-28395D6F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5F27-B5D6-46D5-952E-0BA5414A9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3EBE-C02D-493A-B693-174028228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1E13-6640-48F1-85C5-85385B96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4C91-D960-4126-AA55-32EFD2F5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D3AA-DF85-4A54-B709-00D07E71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A5D2-BF56-40EF-9F57-92BF7A63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A9CF-887F-438F-930C-E84BD5DF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E05E-DFAA-4F47-B283-D729CF9C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8FA7-2DF6-457B-A10F-E8A38529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AD7C-590B-49A5-98B4-B9DA963A2F2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2CCC-F8A8-43F5-BF70-DA5BFA25A0C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2276280"/>
            <a:ext cx="831708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tr-TR" sz="5400" spc="-1" strike="noStrike">
                <a:solidFill>
                  <a:srgbClr val="9933ff"/>
                </a:solidFill>
                <a:latin typeface="Arial"/>
              </a:rPr>
              <a:t>Bilingual education</a:t>
            </a:r>
            <a:br>
              <a:rPr sz="5400"/>
            </a:br>
            <a:r>
              <a:rPr b="1" lang="tr-TR" sz="5400" spc="-1" strike="noStrike">
                <a:solidFill>
                  <a:srgbClr val="9933ff"/>
                </a:solidFill>
                <a:latin typeface="Arial"/>
              </a:rPr>
              <a:t> in TURKE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95280" y="3860640"/>
            <a:ext cx="273672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800" spc="-1" strike="noStrike">
                <a:solidFill>
                  <a:srgbClr val="000000"/>
                </a:solidFill>
                <a:latin typeface="Arial"/>
              </a:rPr>
              <a:t>In Turkey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ople speak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urk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ildren are taught in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urk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nkara, Istanbul, Izmir etc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lots of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eigners = some international school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bilingual schools (mainly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urkis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/Englis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language is taught from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2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grade (age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years)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in public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n private schools, at th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ge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of 3 pupils start to be taught the first language</a:t>
            </a:r>
            <a:r>
              <a:rPr b="0" lang="tr-TR" sz="2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n most of the private schools; from the age of 2, English is taught in “sandwich lessons”</a:t>
            </a: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16000" y="2491920"/>
            <a:ext cx="6912000" cy="34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Çift Dilli (Bilingual) Eğitim Programı"/>
          <p:cNvPicPr/>
          <p:nvPr/>
        </p:nvPicPr>
        <p:blipFill>
          <a:blip r:embed="rId1"/>
          <a:stretch/>
        </p:blipFill>
        <p:spPr>
          <a:xfrm>
            <a:off x="1116000" y="2492280"/>
            <a:ext cx="691200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Sandwich lesson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he lesson in which both English and class teacher teach at the same time to make pupils be familiar with the foreign langu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Bilingualism in Anatolia before Tu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he constitution of three continents: ANATOLIA- the cradle of many civiliz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n ancient Anatolia, bilingual scripts  came out as a result of language conta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00360" y="1628640"/>
            <a:ext cx="4181400" cy="45309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500720" y="1557360"/>
            <a:ext cx="4248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Bilingualism in Anatolia after Turk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efore coming to Anatolia, the </a:t>
            </a:r>
            <a:r>
              <a:rPr b="0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elitist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folk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types of bilingualism were  Turkish, Gothic and Latin langu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02920" y="3933360"/>
            <a:ext cx="6913800" cy="2189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1071 sonrası anadolu ile ilgili görsel sonucu"/>
          <p:cNvPicPr/>
          <p:nvPr/>
        </p:nvPicPr>
        <p:blipFill>
          <a:blip r:embed="rId2"/>
          <a:stretch/>
        </p:blipFill>
        <p:spPr>
          <a:xfrm>
            <a:off x="1403280" y="3716280"/>
            <a:ext cx="6912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Converting to Isla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7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fter Islam, intellectuals created a diglossic society by creating a high variety called </a:t>
            </a:r>
            <a:r>
              <a:rPr b="0" i="1" lang="tr-TR" sz="2800" spc="-1" strike="noStrike">
                <a:solidFill>
                  <a:srgbClr val="000000"/>
                </a:solidFill>
                <a:latin typeface="Arial"/>
              </a:rPr>
              <a:t>Osmanlica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, a mixed language  of Turkish, Arabic and Persi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Ottoman Empire era (1299-1923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During the time of the Ottoman Empire, there had been many speech communities speaking different languages (</a:t>
            </a:r>
            <a:r>
              <a:rPr b="0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There were 22 non-islamic groups 47 ethnic groups (including  islamic and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 non-islamic groups)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42920" y="1773000"/>
            <a:ext cx="403884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411800" y="1773360"/>
            <a:ext cx="473220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Republic era ( 1923- … 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4824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The Turkish Language Associati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was founded in 1932 with an important aim to purify the Turkish language of Arabic and Persian words and to standardize the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urkish was accepted as the only medium of instruction in public schools. However, foreign language courses were also allowed to be taught at secondary and high schools and univers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724360" y="1628280"/>
            <a:ext cx="29577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796000" y="1628640"/>
            <a:ext cx="28796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Folk bilingualism in Turke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he distinction between “</a:t>
            </a:r>
            <a:r>
              <a:rPr b="0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national language”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nd “</a:t>
            </a:r>
            <a:r>
              <a:rPr b="0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native language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here are many languages spoken in Turkey besides Official Turkish Langu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his is because of multi- ethnicity, multi-culturalism, soci-economic diversity, urban-rural distinction, dominant- recessive languages, politics and immig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he most issued one of those languages is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Kurdish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Kurdish – the mother tongue of our Southeas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n South-eastern part of Turkey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urdish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language is the mother tongue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t the very beginning of Primary Education, the Kurdish pupils have to make a lot more efforts than the students whose mother Tongue is already Turkis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86920" y="3933360"/>
            <a:ext cx="6480360" cy="2189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116000" y="3860640"/>
            <a:ext cx="691200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800" spc="-1" strike="noStrike">
                <a:solidFill>
                  <a:srgbClr val="000000"/>
                </a:solidFill>
                <a:latin typeface="Arial"/>
              </a:rPr>
              <a:t>English as the first languag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English language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s the language of privilege or prestige during education life or work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n a way English is institutionalized in each phase of education starting from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indergar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3T21:34:40Z</dcterms:created>
  <dc:creator>ayaz</dc:creator>
  <dc:description/>
  <dc:language>en-US</dc:language>
  <cp:lastModifiedBy>ayaz</cp:lastModifiedBy>
  <dcterms:modified xsi:type="dcterms:W3CDTF">2015-02-23T22:55:28Z</dcterms:modified>
  <cp:revision>4</cp:revision>
  <dc:subject/>
  <dc:title>Bilingualism in TURKEY</dc:title>
</cp:coreProperties>
</file>