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597-BD7B-4504-8E08-E4CA8CCE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BD6-50DB-46FC-B5B6-06741C10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76F-465B-477F-925C-9066B4CE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D5C-1BA2-4AE0-8957-C76B0F0B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4505-3227-4EDC-9565-7955E959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1224-A184-425E-BE7C-D492D072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C807-38B0-4794-ADBE-6E11E802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322A-2F9E-4727-B50A-AACACFF1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A73F-4895-478F-9DD4-A44B5F48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3525-D22B-4BAF-81CF-EAA982AE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D0FF-5E95-42BD-BDF5-5129646C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BF9-9F2F-4DFF-A151-5E17A800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4680-DC9A-4F17-8FC0-F1719FA8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1035-DCE3-4021-922D-9FB5BF01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A2BC-E61C-4850-B825-80003568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0EBE-D02C-4D5E-8D63-3F393A15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FA15-32B3-41AB-A095-563E3715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44955-64BC-420E-8C36-232FEC6D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385D7-0006-410C-AB18-924D95F5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D999B-EC0C-4106-81F8-CAB46259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1BEDE-785D-4441-BA8C-84B5ED05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9681F-AA99-4597-8AF2-1B7923C4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BDE-E3F7-41FD-9152-E81208E2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B8BE9-3EBC-4A8F-8FAB-B1A5A918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606A6-B0C6-40A0-AE02-E808B6D0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06ACF-5785-417E-86CD-B634EA6F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64F77-18AE-4FE5-8CE5-D4832911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8BD3B-29AD-4744-910E-2B41A5A0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DAF2E-8533-4176-9E58-BC020B7D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36AF7-0785-43F8-AE79-3089AB9E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59919-4D41-4AA0-A078-B896340F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AD180-CCC7-46B9-9AC4-D403E98D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C1E5F-7EB6-4726-B8E2-43DB17C6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A24-DE0D-4006-B7C8-EAE315C2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295DA-42AE-4E34-84D8-A9C315F4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BEB1-0A4E-45F6-9118-758B404A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19855-B93F-41BC-A323-9837F35A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96EB7-C30E-445E-A915-C0096347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5C560-57C5-4A3F-91B8-063096CA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C623-85C8-4EF5-875F-7561D18C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3DBA8-FC39-4B7F-90D7-164377AD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64991-34C4-4737-AD5A-748B8190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39152-FC25-4BCF-B7D9-40E58FCE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31F5D9-B12A-40E8-8DDF-A9FB8E89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2BE-FFDB-4ADF-A905-16C01890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04812-C318-48B1-B580-E4F50D2C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349A2-3E09-48C6-947D-5236ED7C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7B7FFC-B78E-4A25-B18F-66B10F10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7CDD1-4C64-42F1-A743-CA5EBDD6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1079D-90A8-4E71-A907-AAE0AC69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388D9-F84A-4BF2-AD82-22DE8536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61C93-BCF3-4E15-86A8-D52FB522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41EE5-C21C-413F-B0C9-B5922B49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29939-2DC5-4E29-A57D-01CC2A44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E5CDE-33E7-411C-B07B-5BE9395A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409-9081-436C-9E77-700BF5F5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FC039-4E48-45EC-848C-AABDF8EC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5A1F01-B751-4211-86AA-78BB9431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9C216-8262-435D-B07D-B4B7A9B8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8203F-8D3E-4C1E-94A8-BF6D7170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1A9A3-7A3E-4A25-87B3-2F32FE33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8042C9-856A-4ACD-BF6E-B00B6C0A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D487F-DBED-4BAE-9106-E6972955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6B20D-6A73-4CE9-9B2B-9E3F7594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B209E8-58D0-4A89-B9D3-5F6361E5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50FA7-1AA4-4032-A837-7DBF344B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0789-D5B6-4D57-A4EE-E5C68209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BE5FF-3D2C-4275-A4C6-9BB329E9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BA0283-7235-4D43-A51F-83238F86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0973A1-6CA5-47E1-B766-AFFB22C8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D2B75-3793-44BB-9AEF-6E33B72A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2F9A4D-37CF-45CB-87E4-ADE343DF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451740-ED64-47AE-8226-F31AAC62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5FC81F-44E8-47DA-94F2-EF98A95D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ED300-5DA1-45FF-A60E-F46F337B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795FF9-BA84-48C2-A510-F0F3A4EB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5E901A-6E41-41B0-9DC8-3563B616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0F3-88ED-4B14-A154-3823AAC2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A37939-C76B-442B-AD0E-DD11BC4D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A6A66-15BF-4123-B864-9F7FF7EC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9021A7-8F77-4058-9307-8C333691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35872D-8560-4441-83A6-4F75C097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C10135-A8F5-42BA-95E1-E9AD5336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9F4-B525-4F82-A9AF-7A883806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9CBE-58DF-411E-AA2D-7A3B41C0F74D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nettore 1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tango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5515-AD47-4078-826F-BBBE1B7CA92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8B55-7BD1-451C-913D-9618AD16F073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nettore 1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4B39-E96B-4832-8B58-E755A0FEF24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D67D-2914-427C-B761-C0BA6E39BF2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nettore 1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tango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C54E-0A6D-439A-AA9E-91205C1B2E87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nettore 1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E66A-3AEC-4AF4-AAC1-919E5F419EF6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421488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CS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SAN DOMENICO SAVIO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TALY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ERASMUS +</a:t>
            </a:r>
            <a:endParaRPr b="0" lang="en-US" sz="2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6920" y="35002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BILINGUAL EDUC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IN ITAL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500800" y="868320"/>
            <a:ext cx="3206520" cy="631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CasellaDiTesto 5"/>
          <p:cNvSpPr/>
          <p:nvPr/>
        </p:nvSpPr>
        <p:spPr>
          <a:xfrm>
            <a:off x="2286000" y="1214280"/>
            <a:ext cx="59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bout in 1994, the use of CLIL (Content and Language Integrated Learning) in Italian Schools had more development  in the Italian Bilingual Regions (language immersion): Piemonte, Valle d’Aosta, Lombardia, Trentino, Veneto, on the border with France, Switzerland, Austria and Slovenia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4" descr="http://www.webalice.it/renza.proch/ITALIA_1/images/italia_politica.jpg"/>
          <p:cNvPicPr/>
          <p:nvPr/>
        </p:nvPicPr>
        <p:blipFill>
          <a:blip r:embed="rId2"/>
          <a:stretch/>
        </p:blipFill>
        <p:spPr>
          <a:xfrm>
            <a:off x="3643200" y="3000240"/>
            <a:ext cx="3167280" cy="372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ttangolo 3"/>
          <p:cNvSpPr/>
          <p:nvPr/>
        </p:nvSpPr>
        <p:spPr>
          <a:xfrm>
            <a:off x="2286000" y="1285920"/>
            <a:ext cx="55008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nce 2010, the Italian School Reform introduced in the High Secondary School (14/18 years) the teaching of a subject (History, Geography, Science, …) in foreign language  according to the methodology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’ Training Courses have therefore been started for the acquisition of skills on CLIL methodology and the acquisition of language skills up to the C1 (CEFR)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especially in Englis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ttp://www.didatticachimica.it/wp-content/uploads/2013/05/CLIL-e-termini-correlati.jpg"/>
          <p:cNvPicPr/>
          <p:nvPr/>
        </p:nvPicPr>
        <p:blipFill>
          <a:blip r:embed="rId2"/>
          <a:stretch/>
        </p:blipFill>
        <p:spPr>
          <a:xfrm>
            <a:off x="3214800" y="4143240"/>
            <a:ext cx="4238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CasellaDiTesto 5"/>
          <p:cNvSpPr/>
          <p:nvPr/>
        </p:nvSpPr>
        <p:spPr>
          <a:xfrm>
            <a:off x="2357280" y="1785960"/>
            <a:ext cx="59295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n Primary (8/11 years) and Lower Secondary School (11/13 years) the teaching in English of a subject (History, Geography, Science, …), according to the methodology CLIL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is at the beginning stage and it’s esperimenta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is due to several reas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 of the older generation, who have high skills in English, are only English Specialist Teache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nly recently have been introduced high English language courses in University Programs, which are not only of Foreign Linguistic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re are still few trained teachers for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856880" y="35676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6880" y="49968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 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Our Sch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67" name="CasellaDiTesto 5"/>
          <p:cNvSpPr/>
          <p:nvPr/>
        </p:nvSpPr>
        <p:spPr>
          <a:xfrm>
            <a:off x="2428920" y="1500120"/>
            <a:ext cx="607212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Primary School (8/11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only Foreign Language is English: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stening, reading and understanding simple phrases, copying correctly, writing short phrases, following a given model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Lower Secondary School (11/13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First Foreign Language is Engl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aching the level of the European Language Portfolio A2 through the integration of various skills: listening, reading, speaking, writing, oral interaction and written interactio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Second Foreign Language is Span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Listening and understanding comprehensively the spoken and written language.</a:t>
            </a:r>
            <a:r>
              <a:rPr b="0" lang="it-IT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Expressing appropriately in speaking and writing interaction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No subject uses CLIL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we are planning strategies for the use of CLIL, through European funding or families’ private contribution, to have mother tongue</a:t>
            </a:r>
            <a:r>
              <a:rPr b="0" lang="en-GB" sz="1600" spc="-1" strike="noStrike">
                <a:solidFill>
                  <a:srgbClr val="404040"/>
                </a:solidFill>
                <a:latin typeface="Century Schoolboo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speakers as assistants in several lesson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3:29:51Z</dcterms:created>
  <dc:creator>xxxxx</dc:creator>
  <dc:description/>
  <dc:language>en-US</dc:language>
  <cp:lastModifiedBy>xxxxx</cp:lastModifiedBy>
  <dcterms:modified xsi:type="dcterms:W3CDTF">2015-02-23T19:52:03Z</dcterms:modified>
  <cp:revision>31</cp:revision>
  <dc:subject/>
  <dc:title>clil</dc:title>
</cp:coreProperties>
</file>